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17B1-FD01-409E-AE28-494EBE9F5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828E-2B96-4EA7-8B0E-51EBD20DA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5A71-CB7D-403E-AB0C-702031ADA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C0FA-E854-40D6-8F43-F932809E1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20B0-743B-467D-8EB3-A8514207F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98E2-8202-4EC7-85F4-35533CE64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0E42-3117-4EA5-8344-49B34BA2C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E09E-478F-4785-892C-D72C99F8E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E0F0-7B65-41E0-B31C-2DECC4DDB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C04A-180D-434E-A903-E5D62776A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1A1D-A9CF-48B6-8F9D-AE9ADD4AB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C19B-7A6F-484E-949F-A1AFAA472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45007-8E94-48E6-8810-8234DB6D4E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n. 31, 2011 Warm-up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ify each triang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8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5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9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6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in., 12in., 7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m, 4m, 4.5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cm,9cm,9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67120" y="2313000"/>
            <a:ext cx="982800" cy="276120"/>
          </a:xfrm>
          <a:custGeom>
            <a:avLst/>
            <a:gdLst/>
            <a:ahLst/>
            <a:rect l="l" t="t" r="r" b="b"/>
            <a:pathLst>
              <a:path w="2730" h="770">
                <a:moveTo>
                  <a:pt x="11212" y="6995"/>
                </a:moveTo>
                <a:cubicBezTo>
                  <a:pt x="11295" y="6967"/>
                  <a:pt x="11240" y="6834"/>
                  <a:pt x="11212" y="6772"/>
                </a:cubicBezTo>
                <a:cubicBezTo>
                  <a:pt x="11134" y="6601"/>
                  <a:pt x="10901" y="6657"/>
                  <a:pt x="10815" y="6796"/>
                </a:cubicBezTo>
                <a:cubicBezTo>
                  <a:pt x="10708" y="6970"/>
                  <a:pt x="10763" y="7373"/>
                  <a:pt x="11038" y="7144"/>
                </a:cubicBezTo>
                <a:cubicBezTo>
                  <a:pt x="11103" y="7089"/>
                  <a:pt x="11163" y="6953"/>
                  <a:pt x="11187" y="6871"/>
                </a:cubicBezTo>
                <a:cubicBezTo>
                  <a:pt x="11187" y="6967"/>
                  <a:pt x="11185" y="7093"/>
                  <a:pt x="11311" y="7119"/>
                </a:cubicBezTo>
                <a:cubicBezTo>
                  <a:pt x="11441" y="7093"/>
                  <a:pt x="11487" y="7081"/>
                  <a:pt x="11559" y="7020"/>
                </a:cubicBezTo>
              </a:path>
              <a:path w="2730" h="770">
                <a:moveTo>
                  <a:pt x="11782" y="6697"/>
                </a:moveTo>
                <a:cubicBezTo>
                  <a:pt x="11657" y="6672"/>
                  <a:pt x="11627" y="6703"/>
                  <a:pt x="11584" y="6846"/>
                </a:cubicBezTo>
                <a:cubicBezTo>
                  <a:pt x="11513" y="7085"/>
                  <a:pt x="11667" y="7180"/>
                  <a:pt x="11881" y="7069"/>
                </a:cubicBezTo>
                <a:cubicBezTo>
                  <a:pt x="12013" y="7000"/>
                  <a:pt x="12060" y="6909"/>
                  <a:pt x="12080" y="6772"/>
                </a:cubicBezTo>
                <a:cubicBezTo>
                  <a:pt x="12062" y="6890"/>
                  <a:pt x="12049" y="6957"/>
                  <a:pt x="12080" y="7069"/>
                </a:cubicBezTo>
                <a:cubicBezTo>
                  <a:pt x="12246" y="7100"/>
                  <a:pt x="12295" y="7043"/>
                  <a:pt x="12402" y="6921"/>
                </a:cubicBezTo>
                <a:cubicBezTo>
                  <a:pt x="12410" y="6913"/>
                  <a:pt x="12419" y="6904"/>
                  <a:pt x="12427" y="6896"/>
                </a:cubicBezTo>
                <a:cubicBezTo>
                  <a:pt x="12400" y="6763"/>
                  <a:pt x="12413" y="6989"/>
                  <a:pt x="12427" y="7020"/>
                </a:cubicBezTo>
                <a:cubicBezTo>
                  <a:pt x="12486" y="7150"/>
                  <a:pt x="12536" y="7127"/>
                  <a:pt x="12650" y="7119"/>
                </a:cubicBezTo>
              </a:path>
              <a:path w="2730" h="770">
                <a:moveTo>
                  <a:pt x="12750" y="6424"/>
                </a:moveTo>
                <a:cubicBezTo>
                  <a:pt x="12750" y="6579"/>
                  <a:pt x="12752" y="6743"/>
                  <a:pt x="12774" y="6896"/>
                </a:cubicBezTo>
                <a:cubicBezTo>
                  <a:pt x="12805" y="7110"/>
                  <a:pt x="12991" y="7064"/>
                  <a:pt x="13146" y="7020"/>
                </a:cubicBezTo>
                <a:cubicBezTo>
                  <a:pt x="13290" y="6979"/>
                  <a:pt x="13402" y="6893"/>
                  <a:pt x="13345" y="6722"/>
                </a:cubicBezTo>
                <a:cubicBezTo>
                  <a:pt x="13337" y="6714"/>
                  <a:pt x="13328" y="6705"/>
                  <a:pt x="13320" y="6697"/>
                </a:cubicBezTo>
                <a:cubicBezTo>
                  <a:pt x="13209" y="6734"/>
                  <a:pt x="13103" y="6847"/>
                  <a:pt x="13221" y="6970"/>
                </a:cubicBezTo>
                <a:cubicBezTo>
                  <a:pt x="13288" y="7039"/>
                  <a:pt x="13401" y="7037"/>
                  <a:pt x="13469" y="7020"/>
                </a:cubicBezTo>
              </a:path>
              <a:path w="2730" h="770">
                <a:moveTo>
                  <a:pt x="12700" y="6648"/>
                </a:moveTo>
                <a:cubicBezTo>
                  <a:pt x="12878" y="6635"/>
                  <a:pt x="13045" y="6580"/>
                  <a:pt x="13221" y="6548"/>
                </a:cubicBezTo>
                <a:cubicBezTo>
                  <a:pt x="13229" y="6548"/>
                  <a:pt x="13238" y="6548"/>
                  <a:pt x="13246" y="6548"/>
                </a:cubicBezTo>
                <a:cubicBezTo>
                  <a:pt x="13159" y="6577"/>
                  <a:pt x="13073" y="6612"/>
                  <a:pt x="12948" y="6623"/>
                </a:cubicBezTo>
              </a:path>
              <a:path w="2730" h="770">
                <a:moveTo>
                  <a:pt x="12526" y="6648"/>
                </a:moveTo>
                <a:cubicBezTo>
                  <a:pt x="12649" y="6660"/>
                  <a:pt x="12750" y="6654"/>
                  <a:pt x="12874" y="6648"/>
                </a:cubicBezTo>
                <a:cubicBezTo>
                  <a:pt x="12882" y="6648"/>
                  <a:pt x="12890" y="6648"/>
                  <a:pt x="12898" y="6648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000680" y="2867040"/>
            <a:ext cx="1143000" cy="312840"/>
          </a:xfrm>
          <a:custGeom>
            <a:avLst/>
            <a:gdLst/>
            <a:ahLst/>
            <a:rect l="l" t="t" r="r" b="b"/>
            <a:pathLst>
              <a:path w="3177" h="869">
                <a:moveTo>
                  <a:pt x="11311" y="8508"/>
                </a:moveTo>
                <a:cubicBezTo>
                  <a:pt x="11273" y="8527"/>
                  <a:pt x="11148" y="8586"/>
                  <a:pt x="11112" y="8706"/>
                </a:cubicBezTo>
                <a:cubicBezTo>
                  <a:pt x="11112" y="8731"/>
                  <a:pt x="11112" y="8756"/>
                  <a:pt x="11112" y="8781"/>
                </a:cubicBezTo>
                <a:cubicBezTo>
                  <a:pt x="11257" y="8794"/>
                  <a:pt x="11340" y="8857"/>
                  <a:pt x="11385" y="8607"/>
                </a:cubicBezTo>
                <a:cubicBezTo>
                  <a:pt x="11385" y="8574"/>
                  <a:pt x="11385" y="8541"/>
                  <a:pt x="11385" y="8508"/>
                </a:cubicBezTo>
                <a:cubicBezTo>
                  <a:pt x="11234" y="8414"/>
                  <a:pt x="11206" y="8475"/>
                  <a:pt x="11385" y="8533"/>
                </a:cubicBezTo>
                <a:cubicBezTo>
                  <a:pt x="11681" y="8630"/>
                  <a:pt x="11802" y="8386"/>
                  <a:pt x="11906" y="8161"/>
                </a:cubicBezTo>
                <a:cubicBezTo>
                  <a:pt x="11930" y="8109"/>
                  <a:pt x="12022" y="7849"/>
                  <a:pt x="11931" y="8062"/>
                </a:cubicBezTo>
                <a:cubicBezTo>
                  <a:pt x="11859" y="8267"/>
                  <a:pt x="11823" y="8477"/>
                  <a:pt x="11757" y="8682"/>
                </a:cubicBezTo>
                <a:cubicBezTo>
                  <a:pt x="11768" y="8589"/>
                  <a:pt x="11759" y="8539"/>
                  <a:pt x="11807" y="8458"/>
                </a:cubicBezTo>
                <a:cubicBezTo>
                  <a:pt x="11914" y="8276"/>
                  <a:pt x="12002" y="8268"/>
                  <a:pt x="12179" y="8260"/>
                </a:cubicBezTo>
                <a:cubicBezTo>
                  <a:pt x="12219" y="8402"/>
                  <a:pt x="12257" y="8602"/>
                  <a:pt x="12030" y="8607"/>
                </a:cubicBezTo>
                <a:cubicBezTo>
                  <a:pt x="11951" y="8609"/>
                  <a:pt x="11837" y="8573"/>
                  <a:pt x="11757" y="8558"/>
                </a:cubicBezTo>
                <a:cubicBezTo>
                  <a:pt x="11830" y="8597"/>
                  <a:pt x="11826" y="8599"/>
                  <a:pt x="11931" y="8607"/>
                </a:cubicBezTo>
                <a:cubicBezTo>
                  <a:pt x="12093" y="8619"/>
                  <a:pt x="12251" y="8596"/>
                  <a:pt x="12378" y="8483"/>
                </a:cubicBezTo>
                <a:cubicBezTo>
                  <a:pt x="12511" y="8365"/>
                  <a:pt x="12519" y="8151"/>
                  <a:pt x="12526" y="7987"/>
                </a:cubicBezTo>
                <a:cubicBezTo>
                  <a:pt x="12526" y="7979"/>
                  <a:pt x="12526" y="7970"/>
                  <a:pt x="12526" y="7962"/>
                </a:cubicBezTo>
                <a:cubicBezTo>
                  <a:pt x="12498" y="8120"/>
                  <a:pt x="12460" y="8276"/>
                  <a:pt x="12427" y="8434"/>
                </a:cubicBezTo>
                <a:cubicBezTo>
                  <a:pt x="12382" y="8651"/>
                  <a:pt x="12441" y="8665"/>
                  <a:pt x="12626" y="8558"/>
                </a:cubicBezTo>
                <a:cubicBezTo>
                  <a:pt x="12725" y="8483"/>
                  <a:pt x="12758" y="8458"/>
                  <a:pt x="12799" y="8384"/>
                </a:cubicBezTo>
                <a:cubicBezTo>
                  <a:pt x="12807" y="8359"/>
                  <a:pt x="12816" y="8335"/>
                  <a:pt x="12824" y="8310"/>
                </a:cubicBezTo>
                <a:cubicBezTo>
                  <a:pt x="12805" y="8358"/>
                  <a:pt x="12691" y="8533"/>
                  <a:pt x="12725" y="8582"/>
                </a:cubicBezTo>
                <a:cubicBezTo>
                  <a:pt x="12799" y="8691"/>
                  <a:pt x="13015" y="8521"/>
                  <a:pt x="13097" y="8458"/>
                </a:cubicBezTo>
                <a:cubicBezTo>
                  <a:pt x="13122" y="8433"/>
                  <a:pt x="13146" y="8409"/>
                  <a:pt x="13171" y="8384"/>
                </a:cubicBezTo>
                <a:cubicBezTo>
                  <a:pt x="13146" y="8334"/>
                  <a:pt x="13120" y="8327"/>
                  <a:pt x="13097" y="8483"/>
                </a:cubicBezTo>
                <a:cubicBezTo>
                  <a:pt x="13066" y="8697"/>
                  <a:pt x="13247" y="8574"/>
                  <a:pt x="13345" y="8508"/>
                </a:cubicBezTo>
                <a:cubicBezTo>
                  <a:pt x="13436" y="8446"/>
                  <a:pt x="13514" y="8260"/>
                  <a:pt x="13593" y="8235"/>
                </a:cubicBezTo>
                <a:cubicBezTo>
                  <a:pt x="13610" y="8243"/>
                  <a:pt x="13626" y="8252"/>
                  <a:pt x="13643" y="8260"/>
                </a:cubicBezTo>
                <a:cubicBezTo>
                  <a:pt x="13687" y="8356"/>
                  <a:pt x="13742" y="8548"/>
                  <a:pt x="13568" y="8582"/>
                </a:cubicBezTo>
                <a:cubicBezTo>
                  <a:pt x="13490" y="8597"/>
                  <a:pt x="13429" y="8484"/>
                  <a:pt x="13370" y="8458"/>
                </a:cubicBezTo>
                <a:cubicBezTo>
                  <a:pt x="13370" y="8466"/>
                  <a:pt x="13370" y="8475"/>
                  <a:pt x="13370" y="8483"/>
                </a:cubicBezTo>
                <a:cubicBezTo>
                  <a:pt x="13520" y="8550"/>
                  <a:pt x="13583" y="8565"/>
                  <a:pt x="13767" y="8483"/>
                </a:cubicBezTo>
                <a:cubicBezTo>
                  <a:pt x="13877" y="8434"/>
                  <a:pt x="14063" y="8307"/>
                  <a:pt x="13965" y="8161"/>
                </a:cubicBezTo>
                <a:cubicBezTo>
                  <a:pt x="13937" y="8161"/>
                  <a:pt x="13926" y="8159"/>
                  <a:pt x="13915" y="8136"/>
                </a:cubicBezTo>
                <a:cubicBezTo>
                  <a:pt x="13846" y="8198"/>
                  <a:pt x="13768" y="8421"/>
                  <a:pt x="13965" y="8458"/>
                </a:cubicBezTo>
                <a:cubicBezTo>
                  <a:pt x="14056" y="8475"/>
                  <a:pt x="14202" y="8406"/>
                  <a:pt x="14288" y="8384"/>
                </a:cubicBezTo>
              </a:path>
              <a:path w="3177" h="869">
                <a:moveTo>
                  <a:pt x="12204" y="8210"/>
                </a:moveTo>
                <a:cubicBezTo>
                  <a:pt x="12416" y="8140"/>
                  <a:pt x="12627" y="8094"/>
                  <a:pt x="12849" y="8062"/>
                </a:cubicBezTo>
                <a:cubicBezTo>
                  <a:pt x="12857" y="8062"/>
                  <a:pt x="12866" y="8062"/>
                  <a:pt x="12874" y="8062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295880" y="3411360"/>
            <a:ext cx="1598400" cy="330480"/>
          </a:xfrm>
          <a:custGeom>
            <a:avLst/>
            <a:gdLst/>
            <a:ahLst/>
            <a:rect l="l" t="t" r="r" b="b"/>
            <a:pathLst>
              <a:path w="4441" h="919">
                <a:moveTo>
                  <a:pt x="11931" y="10344"/>
                </a:moveTo>
                <a:cubicBezTo>
                  <a:pt x="12054" y="10344"/>
                  <a:pt x="12171" y="10221"/>
                  <a:pt x="12254" y="10145"/>
                </a:cubicBezTo>
                <a:cubicBezTo>
                  <a:pt x="12338" y="10069"/>
                  <a:pt x="12504" y="9916"/>
                  <a:pt x="12551" y="9823"/>
                </a:cubicBezTo>
                <a:cubicBezTo>
                  <a:pt x="12593" y="9947"/>
                  <a:pt x="12675" y="10050"/>
                  <a:pt x="12675" y="10195"/>
                </a:cubicBezTo>
                <a:cubicBezTo>
                  <a:pt x="12675" y="10410"/>
                  <a:pt x="12449" y="10353"/>
                  <a:pt x="12303" y="10319"/>
                </a:cubicBezTo>
                <a:cubicBezTo>
                  <a:pt x="12278" y="10311"/>
                  <a:pt x="12254" y="10302"/>
                  <a:pt x="12229" y="10294"/>
                </a:cubicBezTo>
                <a:cubicBezTo>
                  <a:pt x="12204" y="10294"/>
                  <a:pt x="12196" y="10294"/>
                  <a:pt x="12229" y="10294"/>
                </a:cubicBezTo>
                <a:cubicBezTo>
                  <a:pt x="12433" y="10374"/>
                  <a:pt x="12533" y="10389"/>
                  <a:pt x="12725" y="10294"/>
                </a:cubicBezTo>
              </a:path>
              <a:path w="4441" h="919">
                <a:moveTo>
                  <a:pt x="13022" y="9897"/>
                </a:moveTo>
                <a:cubicBezTo>
                  <a:pt x="13034" y="9886"/>
                  <a:pt x="12935" y="9796"/>
                  <a:pt x="12874" y="9922"/>
                </a:cubicBezTo>
                <a:cubicBezTo>
                  <a:pt x="12816" y="10040"/>
                  <a:pt x="12757" y="10313"/>
                  <a:pt x="12973" y="10319"/>
                </a:cubicBezTo>
                <a:cubicBezTo>
                  <a:pt x="13108" y="10292"/>
                  <a:pt x="13157" y="10277"/>
                  <a:pt x="13221" y="10195"/>
                </a:cubicBezTo>
              </a:path>
              <a:path w="4441" h="919">
                <a:moveTo>
                  <a:pt x="13593" y="10096"/>
                </a:moveTo>
                <a:cubicBezTo>
                  <a:pt x="13540" y="9967"/>
                  <a:pt x="13565" y="9980"/>
                  <a:pt x="13444" y="9947"/>
                </a:cubicBezTo>
                <a:cubicBezTo>
                  <a:pt x="13380" y="10011"/>
                  <a:pt x="13134" y="10295"/>
                  <a:pt x="13370" y="10344"/>
                </a:cubicBezTo>
                <a:cubicBezTo>
                  <a:pt x="13534" y="10378"/>
                  <a:pt x="13594" y="10215"/>
                  <a:pt x="13618" y="10145"/>
                </a:cubicBezTo>
                <a:cubicBezTo>
                  <a:pt x="13618" y="10137"/>
                  <a:pt x="13618" y="10128"/>
                  <a:pt x="13618" y="10120"/>
                </a:cubicBezTo>
                <a:cubicBezTo>
                  <a:pt x="13630" y="10324"/>
                  <a:pt x="13620" y="10398"/>
                  <a:pt x="13841" y="10368"/>
                </a:cubicBezTo>
                <a:cubicBezTo>
                  <a:pt x="14056" y="10339"/>
                  <a:pt x="14215" y="10186"/>
                  <a:pt x="14312" y="9996"/>
                </a:cubicBezTo>
                <a:cubicBezTo>
                  <a:pt x="14424" y="9777"/>
                  <a:pt x="14364" y="9616"/>
                  <a:pt x="14163" y="9500"/>
                </a:cubicBezTo>
                <a:cubicBezTo>
                  <a:pt x="14138" y="9492"/>
                  <a:pt x="14114" y="9483"/>
                  <a:pt x="14089" y="9475"/>
                </a:cubicBezTo>
                <a:cubicBezTo>
                  <a:pt x="13934" y="9653"/>
                  <a:pt x="13889" y="9848"/>
                  <a:pt x="13965" y="10096"/>
                </a:cubicBezTo>
                <a:cubicBezTo>
                  <a:pt x="14039" y="10339"/>
                  <a:pt x="14238" y="10360"/>
                  <a:pt x="14461" y="10344"/>
                </a:cubicBezTo>
                <a:cubicBezTo>
                  <a:pt x="14614" y="10333"/>
                  <a:pt x="14852" y="10245"/>
                  <a:pt x="14808" y="10046"/>
                </a:cubicBezTo>
                <a:cubicBezTo>
                  <a:pt x="14765" y="9981"/>
                  <a:pt x="14759" y="9960"/>
                  <a:pt x="14709" y="9947"/>
                </a:cubicBezTo>
                <a:cubicBezTo>
                  <a:pt x="14570" y="9956"/>
                  <a:pt x="14482" y="9971"/>
                  <a:pt x="14486" y="10145"/>
                </a:cubicBezTo>
                <a:cubicBezTo>
                  <a:pt x="14491" y="10332"/>
                  <a:pt x="14622" y="10391"/>
                  <a:pt x="14784" y="10344"/>
                </a:cubicBezTo>
                <a:cubicBezTo>
                  <a:pt x="14942" y="10298"/>
                  <a:pt x="15100" y="10168"/>
                  <a:pt x="15131" y="9996"/>
                </a:cubicBezTo>
                <a:cubicBezTo>
                  <a:pt x="15111" y="9956"/>
                  <a:pt x="15102" y="9930"/>
                  <a:pt x="15106" y="9971"/>
                </a:cubicBezTo>
                <a:cubicBezTo>
                  <a:pt x="15106" y="10081"/>
                  <a:pt x="15241" y="10293"/>
                  <a:pt x="15131" y="10294"/>
                </a:cubicBezTo>
                <a:cubicBezTo>
                  <a:pt x="15027" y="10295"/>
                  <a:pt x="15076" y="10022"/>
                  <a:pt x="15106" y="9971"/>
                </a:cubicBezTo>
                <a:cubicBezTo>
                  <a:pt x="15186" y="9833"/>
                  <a:pt x="15309" y="9827"/>
                  <a:pt x="15404" y="9922"/>
                </a:cubicBezTo>
                <a:cubicBezTo>
                  <a:pt x="15521" y="10039"/>
                  <a:pt x="15437" y="10250"/>
                  <a:pt x="15627" y="10294"/>
                </a:cubicBezTo>
                <a:cubicBezTo>
                  <a:pt x="15776" y="10329"/>
                  <a:pt x="15839" y="10211"/>
                  <a:pt x="15875" y="10096"/>
                </a:cubicBezTo>
                <a:cubicBezTo>
                  <a:pt x="15918" y="9960"/>
                  <a:pt x="15889" y="9904"/>
                  <a:pt x="15776" y="9847"/>
                </a:cubicBezTo>
                <a:cubicBezTo>
                  <a:pt x="15768" y="9847"/>
                  <a:pt x="15759" y="9847"/>
                  <a:pt x="15751" y="9847"/>
                </a:cubicBezTo>
                <a:cubicBezTo>
                  <a:pt x="15704" y="10001"/>
                  <a:pt x="15669" y="10122"/>
                  <a:pt x="15776" y="10269"/>
                </a:cubicBezTo>
                <a:cubicBezTo>
                  <a:pt x="15870" y="10397"/>
                  <a:pt x="16022" y="10393"/>
                  <a:pt x="16148" y="10319"/>
                </a:cubicBezTo>
                <a:cubicBezTo>
                  <a:pt x="16245" y="10262"/>
                  <a:pt x="16307" y="10181"/>
                  <a:pt x="16371" y="10096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919840" y="4643280"/>
            <a:ext cx="9360" cy="1800"/>
          </a:xfrm>
          <a:custGeom>
            <a:avLst/>
            <a:gdLst/>
            <a:ahLst/>
            <a:rect l="l" t="t" r="r" b="b"/>
            <a:pathLst>
              <a:path w="25" h="1">
                <a:moveTo>
                  <a:pt x="16446" y="12898"/>
                </a:moveTo>
                <a:cubicBezTo>
                  <a:pt x="16454" y="12898"/>
                  <a:pt x="16462" y="12898"/>
                  <a:pt x="16470" y="12898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84840" y="4606920"/>
            <a:ext cx="2598480" cy="554040"/>
          </a:xfrm>
          <a:custGeom>
            <a:avLst/>
            <a:gdLst/>
            <a:ahLst/>
            <a:rect l="l" t="t" r="r" b="b"/>
            <a:pathLst>
              <a:path w="7219" h="1539">
                <a:moveTo>
                  <a:pt x="13568" y="13543"/>
                </a:moveTo>
                <a:cubicBezTo>
                  <a:pt x="13630" y="13566"/>
                  <a:pt x="13757" y="13641"/>
                  <a:pt x="13816" y="13643"/>
                </a:cubicBezTo>
                <a:cubicBezTo>
                  <a:pt x="14024" y="13651"/>
                  <a:pt x="14343" y="13556"/>
                  <a:pt x="14461" y="13370"/>
                </a:cubicBezTo>
                <a:cubicBezTo>
                  <a:pt x="14549" y="13231"/>
                  <a:pt x="14513" y="13126"/>
                  <a:pt x="14461" y="12998"/>
                </a:cubicBezTo>
                <a:cubicBezTo>
                  <a:pt x="14276" y="12983"/>
                  <a:pt x="14162" y="13105"/>
                  <a:pt x="14213" y="13320"/>
                </a:cubicBezTo>
                <a:cubicBezTo>
                  <a:pt x="14277" y="13592"/>
                  <a:pt x="14502" y="13557"/>
                  <a:pt x="14684" y="13494"/>
                </a:cubicBezTo>
              </a:path>
              <a:path w="7219" h="1539">
                <a:moveTo>
                  <a:pt x="14982" y="13221"/>
                </a:moveTo>
                <a:cubicBezTo>
                  <a:pt x="14938" y="13168"/>
                  <a:pt x="14886" y="13043"/>
                  <a:pt x="14784" y="13122"/>
                </a:cubicBezTo>
                <a:cubicBezTo>
                  <a:pt x="14647" y="13228"/>
                  <a:pt x="14678" y="13377"/>
                  <a:pt x="14684" y="13519"/>
                </a:cubicBezTo>
                <a:cubicBezTo>
                  <a:pt x="14860" y="13490"/>
                  <a:pt x="14987" y="13440"/>
                  <a:pt x="15081" y="13271"/>
                </a:cubicBezTo>
                <a:cubicBezTo>
                  <a:pt x="15081" y="13263"/>
                  <a:pt x="15081" y="13254"/>
                  <a:pt x="15081" y="13246"/>
                </a:cubicBezTo>
                <a:cubicBezTo>
                  <a:pt x="15059" y="13342"/>
                  <a:pt x="15004" y="13569"/>
                  <a:pt x="14982" y="13692"/>
                </a:cubicBezTo>
                <a:cubicBezTo>
                  <a:pt x="14942" y="13920"/>
                  <a:pt x="14898" y="14114"/>
                  <a:pt x="14908" y="14337"/>
                </a:cubicBezTo>
                <a:cubicBezTo>
                  <a:pt x="15048" y="14213"/>
                  <a:pt x="15344" y="13994"/>
                  <a:pt x="15156" y="13767"/>
                </a:cubicBezTo>
                <a:cubicBezTo>
                  <a:pt x="15082" y="13678"/>
                  <a:pt x="14995" y="13696"/>
                  <a:pt x="14883" y="13667"/>
                </a:cubicBezTo>
                <a:cubicBezTo>
                  <a:pt x="15072" y="13656"/>
                  <a:pt x="15299" y="13669"/>
                  <a:pt x="15478" y="13543"/>
                </a:cubicBezTo>
                <a:cubicBezTo>
                  <a:pt x="15544" y="13456"/>
                  <a:pt x="15564" y="13438"/>
                  <a:pt x="15577" y="13370"/>
                </a:cubicBezTo>
                <a:cubicBezTo>
                  <a:pt x="15575" y="13391"/>
                  <a:pt x="15507" y="13537"/>
                  <a:pt x="15577" y="13618"/>
                </a:cubicBezTo>
                <a:cubicBezTo>
                  <a:pt x="15687" y="13745"/>
                  <a:pt x="15914" y="13539"/>
                  <a:pt x="15974" y="13469"/>
                </a:cubicBezTo>
                <a:cubicBezTo>
                  <a:pt x="16034" y="13390"/>
                  <a:pt x="16059" y="13381"/>
                  <a:pt x="16049" y="13320"/>
                </a:cubicBezTo>
                <a:cubicBezTo>
                  <a:pt x="16030" y="13375"/>
                  <a:pt x="15957" y="13495"/>
                  <a:pt x="16073" y="13568"/>
                </a:cubicBezTo>
                <a:cubicBezTo>
                  <a:pt x="16209" y="13654"/>
                  <a:pt x="16356" y="13529"/>
                  <a:pt x="16421" y="13419"/>
                </a:cubicBezTo>
                <a:cubicBezTo>
                  <a:pt x="16429" y="13394"/>
                  <a:pt x="16438" y="13370"/>
                  <a:pt x="16446" y="13345"/>
                </a:cubicBezTo>
                <a:cubicBezTo>
                  <a:pt x="16454" y="13403"/>
                  <a:pt x="16436" y="13421"/>
                  <a:pt x="16470" y="13469"/>
                </a:cubicBezTo>
                <a:cubicBezTo>
                  <a:pt x="16567" y="13608"/>
                  <a:pt x="16659" y="13567"/>
                  <a:pt x="16818" y="13543"/>
                </a:cubicBezTo>
                <a:cubicBezTo>
                  <a:pt x="17054" y="13507"/>
                  <a:pt x="17186" y="13370"/>
                  <a:pt x="17190" y="13122"/>
                </a:cubicBezTo>
                <a:cubicBezTo>
                  <a:pt x="17193" y="12945"/>
                  <a:pt x="17133" y="12891"/>
                  <a:pt x="17016" y="12799"/>
                </a:cubicBezTo>
                <a:cubicBezTo>
                  <a:pt x="16834" y="12832"/>
                  <a:pt x="16806" y="13040"/>
                  <a:pt x="16818" y="13221"/>
                </a:cubicBezTo>
                <a:cubicBezTo>
                  <a:pt x="16840" y="13549"/>
                  <a:pt x="16965" y="13625"/>
                  <a:pt x="17239" y="13593"/>
                </a:cubicBezTo>
              </a:path>
              <a:path w="7219" h="1539">
                <a:moveTo>
                  <a:pt x="17711" y="13543"/>
                </a:moveTo>
                <a:cubicBezTo>
                  <a:pt x="17719" y="13438"/>
                  <a:pt x="17684" y="13256"/>
                  <a:pt x="17512" y="13320"/>
                </a:cubicBezTo>
                <a:cubicBezTo>
                  <a:pt x="17355" y="13379"/>
                  <a:pt x="17286" y="13711"/>
                  <a:pt x="17512" y="13717"/>
                </a:cubicBezTo>
                <a:cubicBezTo>
                  <a:pt x="17649" y="13720"/>
                  <a:pt x="17709" y="13587"/>
                  <a:pt x="17760" y="13494"/>
                </a:cubicBezTo>
                <a:cubicBezTo>
                  <a:pt x="17760" y="13522"/>
                  <a:pt x="17758" y="13533"/>
                  <a:pt x="17735" y="13543"/>
                </a:cubicBezTo>
                <a:cubicBezTo>
                  <a:pt x="17765" y="13768"/>
                  <a:pt x="17912" y="13760"/>
                  <a:pt x="18083" y="13593"/>
                </a:cubicBezTo>
                <a:cubicBezTo>
                  <a:pt x="18260" y="13420"/>
                  <a:pt x="18167" y="13206"/>
                  <a:pt x="18132" y="12998"/>
                </a:cubicBezTo>
                <a:cubicBezTo>
                  <a:pt x="18132" y="12990"/>
                  <a:pt x="18132" y="12981"/>
                  <a:pt x="18132" y="12973"/>
                </a:cubicBezTo>
                <a:cubicBezTo>
                  <a:pt x="18120" y="13130"/>
                  <a:pt x="18092" y="13286"/>
                  <a:pt x="18083" y="13444"/>
                </a:cubicBezTo>
                <a:cubicBezTo>
                  <a:pt x="18083" y="13594"/>
                  <a:pt x="18077" y="13629"/>
                  <a:pt x="18107" y="13717"/>
                </a:cubicBezTo>
                <a:cubicBezTo>
                  <a:pt x="18274" y="13743"/>
                  <a:pt x="18391" y="13684"/>
                  <a:pt x="18504" y="13543"/>
                </a:cubicBezTo>
                <a:cubicBezTo>
                  <a:pt x="18593" y="13432"/>
                  <a:pt x="18593" y="13423"/>
                  <a:pt x="18554" y="13320"/>
                </a:cubicBezTo>
                <a:cubicBezTo>
                  <a:pt x="18436" y="13383"/>
                  <a:pt x="18359" y="13423"/>
                  <a:pt x="18355" y="13593"/>
                </a:cubicBezTo>
                <a:cubicBezTo>
                  <a:pt x="18350" y="13832"/>
                  <a:pt x="18618" y="13831"/>
                  <a:pt x="18752" y="13692"/>
                </a:cubicBezTo>
                <a:cubicBezTo>
                  <a:pt x="18889" y="13549"/>
                  <a:pt x="18869" y="13439"/>
                  <a:pt x="18827" y="13320"/>
                </a:cubicBezTo>
                <a:cubicBezTo>
                  <a:pt x="18863" y="13344"/>
                  <a:pt x="19065" y="13446"/>
                  <a:pt x="19075" y="13469"/>
                </a:cubicBezTo>
                <a:cubicBezTo>
                  <a:pt x="19115" y="13560"/>
                  <a:pt x="18891" y="13675"/>
                  <a:pt x="19050" y="13742"/>
                </a:cubicBezTo>
                <a:cubicBezTo>
                  <a:pt x="19203" y="13807"/>
                  <a:pt x="19266" y="13706"/>
                  <a:pt x="19372" y="13618"/>
                </a:cubicBezTo>
              </a:path>
              <a:path w="7219" h="1539">
                <a:moveTo>
                  <a:pt x="19819" y="13543"/>
                </a:moveTo>
                <a:cubicBezTo>
                  <a:pt x="19842" y="13498"/>
                  <a:pt x="19896" y="13414"/>
                  <a:pt x="19745" y="13395"/>
                </a:cubicBezTo>
                <a:cubicBezTo>
                  <a:pt x="19554" y="13371"/>
                  <a:pt x="19537" y="13576"/>
                  <a:pt x="19496" y="13692"/>
                </a:cubicBezTo>
                <a:cubicBezTo>
                  <a:pt x="19695" y="13745"/>
                  <a:pt x="19748" y="13684"/>
                  <a:pt x="19844" y="13494"/>
                </a:cubicBezTo>
                <a:cubicBezTo>
                  <a:pt x="19831" y="13594"/>
                  <a:pt x="19781" y="13723"/>
                  <a:pt x="19943" y="13742"/>
                </a:cubicBezTo>
                <a:cubicBezTo>
                  <a:pt x="20199" y="13772"/>
                  <a:pt x="20437" y="13491"/>
                  <a:pt x="20489" y="13271"/>
                </a:cubicBezTo>
                <a:cubicBezTo>
                  <a:pt x="20544" y="13041"/>
                  <a:pt x="20454" y="12954"/>
                  <a:pt x="20315" y="12824"/>
                </a:cubicBezTo>
                <a:cubicBezTo>
                  <a:pt x="20081" y="12961"/>
                  <a:pt x="20100" y="13225"/>
                  <a:pt x="20241" y="13494"/>
                </a:cubicBezTo>
                <a:cubicBezTo>
                  <a:pt x="20352" y="13706"/>
                  <a:pt x="20565" y="13696"/>
                  <a:pt x="20762" y="13618"/>
                </a:cubicBezTo>
                <a:cubicBezTo>
                  <a:pt x="20770" y="13610"/>
                  <a:pt x="20778" y="13601"/>
                  <a:pt x="20786" y="13593"/>
                </a:cubicBezTo>
              </a:path>
              <a:path w="7219" h="1539">
                <a:moveTo>
                  <a:pt x="18157" y="13196"/>
                </a:moveTo>
                <a:cubicBezTo>
                  <a:pt x="18083" y="13177"/>
                  <a:pt x="18076" y="13169"/>
                  <a:pt x="18033" y="13171"/>
                </a:cubicBezTo>
                <a:cubicBezTo>
                  <a:pt x="18249" y="13171"/>
                  <a:pt x="18761" y="13071"/>
                  <a:pt x="18926" y="13196"/>
                </a:cubicBezTo>
                <a:cubicBezTo>
                  <a:pt x="18883" y="13196"/>
                  <a:pt x="18858" y="13202"/>
                  <a:pt x="18827" y="13221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893960" y="2768760"/>
            <a:ext cx="731880" cy="561960"/>
          </a:xfrm>
          <a:custGeom>
            <a:avLst/>
            <a:gdLst/>
            <a:ahLst/>
            <a:rect l="l" t="t" r="r" b="b"/>
            <a:pathLst>
              <a:path w="2035" h="1564">
                <a:moveTo>
                  <a:pt x="5631" y="9128"/>
                </a:moveTo>
                <a:cubicBezTo>
                  <a:pt x="5781" y="9134"/>
                  <a:pt x="5926" y="9150"/>
                  <a:pt x="6077" y="9153"/>
                </a:cubicBezTo>
                <a:cubicBezTo>
                  <a:pt x="6279" y="9156"/>
                  <a:pt x="6501" y="9165"/>
                  <a:pt x="6697" y="9103"/>
                </a:cubicBezTo>
                <a:cubicBezTo>
                  <a:pt x="6834" y="9060"/>
                  <a:pt x="6945" y="9008"/>
                  <a:pt x="7020" y="8930"/>
                </a:cubicBezTo>
                <a:cubicBezTo>
                  <a:pt x="7093" y="8853"/>
                  <a:pt x="7152" y="8757"/>
                  <a:pt x="7193" y="8657"/>
                </a:cubicBezTo>
                <a:cubicBezTo>
                  <a:pt x="7228" y="8571"/>
                  <a:pt x="7264" y="8501"/>
                  <a:pt x="7268" y="8409"/>
                </a:cubicBezTo>
                <a:cubicBezTo>
                  <a:pt x="7271" y="8333"/>
                  <a:pt x="7304" y="8262"/>
                  <a:pt x="7293" y="8186"/>
                </a:cubicBezTo>
                <a:cubicBezTo>
                  <a:pt x="7282" y="8113"/>
                  <a:pt x="7260" y="8025"/>
                  <a:pt x="7218" y="7962"/>
                </a:cubicBezTo>
                <a:cubicBezTo>
                  <a:pt x="7155" y="7869"/>
                  <a:pt x="7100" y="7828"/>
                  <a:pt x="6995" y="7789"/>
                </a:cubicBezTo>
                <a:cubicBezTo>
                  <a:pt x="6871" y="7743"/>
                  <a:pt x="6747" y="7739"/>
                  <a:pt x="6623" y="7714"/>
                </a:cubicBezTo>
                <a:cubicBezTo>
                  <a:pt x="6500" y="7689"/>
                  <a:pt x="6422" y="7701"/>
                  <a:pt x="6300" y="7714"/>
                </a:cubicBezTo>
                <a:cubicBezTo>
                  <a:pt x="6183" y="7727"/>
                  <a:pt x="6069" y="7756"/>
                  <a:pt x="5953" y="7789"/>
                </a:cubicBezTo>
                <a:cubicBezTo>
                  <a:pt x="5905" y="7803"/>
                  <a:pt x="5791" y="7849"/>
                  <a:pt x="5755" y="7888"/>
                </a:cubicBezTo>
                <a:cubicBezTo>
                  <a:pt x="5717" y="7929"/>
                  <a:pt x="5665" y="7991"/>
                  <a:pt x="5631" y="8037"/>
                </a:cubicBezTo>
                <a:cubicBezTo>
                  <a:pt x="5601" y="8079"/>
                  <a:pt x="5562" y="8097"/>
                  <a:pt x="5531" y="8136"/>
                </a:cubicBezTo>
                <a:cubicBezTo>
                  <a:pt x="5497" y="8180"/>
                  <a:pt x="5465" y="8236"/>
                  <a:pt x="5432" y="8285"/>
                </a:cubicBezTo>
                <a:cubicBezTo>
                  <a:pt x="5395" y="8340"/>
                  <a:pt x="5363" y="8398"/>
                  <a:pt x="5333" y="8458"/>
                </a:cubicBezTo>
                <a:cubicBezTo>
                  <a:pt x="5297" y="8530"/>
                  <a:pt x="5268" y="8605"/>
                  <a:pt x="5259" y="8682"/>
                </a:cubicBezTo>
                <a:cubicBezTo>
                  <a:pt x="5244" y="8805"/>
                  <a:pt x="5292" y="8869"/>
                  <a:pt x="5333" y="8979"/>
                </a:cubicBezTo>
                <a:cubicBezTo>
                  <a:pt x="5378" y="9099"/>
                  <a:pt x="5401" y="9062"/>
                  <a:pt x="5482" y="9153"/>
                </a:cubicBezTo>
                <a:cubicBezTo>
                  <a:pt x="5536" y="9214"/>
                  <a:pt x="5549" y="9239"/>
                  <a:pt x="5631" y="9252"/>
                </a:cubicBezTo>
                <a:cubicBezTo>
                  <a:pt x="5672" y="9252"/>
                  <a:pt x="5680" y="9252"/>
                  <a:pt x="5705" y="9252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857840" y="4054320"/>
            <a:ext cx="428400" cy="347760"/>
          </a:xfrm>
          <a:custGeom>
            <a:avLst/>
            <a:gdLst/>
            <a:ahLst/>
            <a:rect l="l" t="t" r="r" b="b"/>
            <a:pathLst>
              <a:path w="1191" h="969">
                <a:moveTo>
                  <a:pt x="14684" y="12204"/>
                </a:moveTo>
                <a:cubicBezTo>
                  <a:pt x="14684" y="12212"/>
                  <a:pt x="14684" y="12221"/>
                  <a:pt x="14684" y="12229"/>
                </a:cubicBezTo>
              </a:path>
              <a:path w="1191" h="969">
                <a:moveTo>
                  <a:pt x="13494" y="11261"/>
                </a:moveTo>
                <a:lnTo>
                  <a:pt x="13494" y="11261"/>
                </a:lnTo>
                <a:lnTo>
                  <a:pt x="13494" y="11261"/>
                </a:lnTo>
                <a:lnTo>
                  <a:pt x="13494" y="11261"/>
                </a:ln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08080" y="4500720"/>
            <a:ext cx="1392120" cy="44280"/>
          </a:xfrm>
          <a:custGeom>
            <a:avLst/>
            <a:gdLst/>
            <a:ahLst/>
            <a:rect l="l" t="t" r="r" b="b"/>
            <a:pathLst>
              <a:path w="3870" h="125">
                <a:moveTo>
                  <a:pt x="3076" y="12502"/>
                </a:moveTo>
                <a:cubicBezTo>
                  <a:pt x="3141" y="12512"/>
                  <a:pt x="3210" y="12514"/>
                  <a:pt x="3274" y="12526"/>
                </a:cubicBezTo>
                <a:cubicBezTo>
                  <a:pt x="3450" y="12559"/>
                  <a:pt x="3593" y="12537"/>
                  <a:pt x="3770" y="12526"/>
                </a:cubicBezTo>
                <a:cubicBezTo>
                  <a:pt x="3978" y="12513"/>
                  <a:pt x="4188" y="12533"/>
                  <a:pt x="4390" y="12551"/>
                </a:cubicBezTo>
                <a:cubicBezTo>
                  <a:pt x="4543" y="12565"/>
                  <a:pt x="4684" y="12512"/>
                  <a:pt x="4837" y="12526"/>
                </a:cubicBezTo>
                <a:cubicBezTo>
                  <a:pt x="4936" y="12535"/>
                  <a:pt x="5042" y="12550"/>
                  <a:pt x="5135" y="12576"/>
                </a:cubicBezTo>
                <a:cubicBezTo>
                  <a:pt x="5218" y="12599"/>
                  <a:pt x="5298" y="12617"/>
                  <a:pt x="5383" y="12626"/>
                </a:cubicBezTo>
                <a:cubicBezTo>
                  <a:pt x="5796" y="12668"/>
                  <a:pt x="6262" y="12641"/>
                  <a:pt x="6672" y="12601"/>
                </a:cubicBezTo>
                <a:cubicBezTo>
                  <a:pt x="6747" y="12594"/>
                  <a:pt x="6834" y="12585"/>
                  <a:pt x="6896" y="12576"/>
                </a:cubicBezTo>
                <a:cubicBezTo>
                  <a:pt x="6921" y="12576"/>
                  <a:pt x="6929" y="12576"/>
                  <a:pt x="6945" y="12576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00720" y="4152960"/>
            <a:ext cx="687240" cy="258840"/>
          </a:xfrm>
          <a:custGeom>
            <a:avLst/>
            <a:gdLst/>
            <a:ahLst/>
            <a:rect l="l" t="t" r="r" b="b"/>
            <a:pathLst>
              <a:path w="1911" h="721">
                <a:moveTo>
                  <a:pt x="12650" y="11708"/>
                </a:moveTo>
                <a:cubicBezTo>
                  <a:pt x="12672" y="11762"/>
                  <a:pt x="12641" y="11797"/>
                  <a:pt x="12601" y="11906"/>
                </a:cubicBezTo>
                <a:cubicBezTo>
                  <a:pt x="12560" y="12020"/>
                  <a:pt x="12519" y="12114"/>
                  <a:pt x="12502" y="12229"/>
                </a:cubicBezTo>
                <a:cubicBezTo>
                  <a:pt x="12671" y="12229"/>
                  <a:pt x="12741" y="12195"/>
                  <a:pt x="12874" y="12080"/>
                </a:cubicBezTo>
                <a:cubicBezTo>
                  <a:pt x="12986" y="11982"/>
                  <a:pt x="13089" y="11855"/>
                  <a:pt x="13171" y="11733"/>
                </a:cubicBezTo>
                <a:cubicBezTo>
                  <a:pt x="13197" y="11810"/>
                  <a:pt x="13289" y="12133"/>
                  <a:pt x="13221" y="12204"/>
                </a:cubicBezTo>
                <a:cubicBezTo>
                  <a:pt x="13174" y="12253"/>
                  <a:pt x="12953" y="12255"/>
                  <a:pt x="12898" y="12204"/>
                </a:cubicBezTo>
                <a:cubicBezTo>
                  <a:pt x="12880" y="12187"/>
                  <a:pt x="12923" y="12179"/>
                  <a:pt x="12923" y="12154"/>
                </a:cubicBezTo>
                <a:cubicBezTo>
                  <a:pt x="13031" y="12274"/>
                  <a:pt x="13130" y="12265"/>
                  <a:pt x="13295" y="12204"/>
                </a:cubicBezTo>
                <a:cubicBezTo>
                  <a:pt x="13497" y="12130"/>
                  <a:pt x="13621" y="11961"/>
                  <a:pt x="13717" y="11782"/>
                </a:cubicBezTo>
                <a:cubicBezTo>
                  <a:pt x="13650" y="11832"/>
                  <a:pt x="13645" y="11877"/>
                  <a:pt x="13618" y="11956"/>
                </a:cubicBezTo>
                <a:cubicBezTo>
                  <a:pt x="13563" y="12117"/>
                  <a:pt x="13541" y="12152"/>
                  <a:pt x="13643" y="12254"/>
                </a:cubicBezTo>
                <a:cubicBezTo>
                  <a:pt x="13856" y="12220"/>
                  <a:pt x="13952" y="12149"/>
                  <a:pt x="13940" y="11906"/>
                </a:cubicBezTo>
                <a:cubicBezTo>
                  <a:pt x="13935" y="11807"/>
                  <a:pt x="13778" y="11642"/>
                  <a:pt x="13667" y="11708"/>
                </a:cubicBezTo>
                <a:cubicBezTo>
                  <a:pt x="13667" y="11736"/>
                  <a:pt x="13665" y="11746"/>
                  <a:pt x="13643" y="11757"/>
                </a:cubicBezTo>
                <a:cubicBezTo>
                  <a:pt x="13714" y="11930"/>
                  <a:pt x="13840" y="11976"/>
                  <a:pt x="14039" y="11931"/>
                </a:cubicBezTo>
                <a:cubicBezTo>
                  <a:pt x="14264" y="11881"/>
                  <a:pt x="14382" y="11745"/>
                  <a:pt x="14412" y="11534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81840" y="5724360"/>
            <a:ext cx="17280" cy="9720"/>
          </a:xfrm>
          <a:custGeom>
            <a:avLst/>
            <a:gdLst/>
            <a:ahLst/>
            <a:rect l="l" t="t" r="r" b="b"/>
            <a:pathLst>
              <a:path w="51" h="26">
                <a:moveTo>
                  <a:pt x="16892" y="15925"/>
                </a:moveTo>
                <a:cubicBezTo>
                  <a:pt x="16909" y="15917"/>
                  <a:pt x="16925" y="15908"/>
                  <a:pt x="16942" y="15900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33200" y="4714920"/>
            <a:ext cx="331920" cy="312840"/>
          </a:xfrm>
          <a:custGeom>
            <a:avLst/>
            <a:gdLst/>
            <a:ahLst/>
            <a:rect l="l" t="t" r="r" b="b"/>
            <a:pathLst>
              <a:path w="919" h="869">
                <a:moveTo>
                  <a:pt x="769" y="13171"/>
                </a:moveTo>
                <a:cubicBezTo>
                  <a:pt x="741" y="13171"/>
                  <a:pt x="730" y="13169"/>
                  <a:pt x="719" y="13146"/>
                </a:cubicBezTo>
                <a:cubicBezTo>
                  <a:pt x="772" y="13358"/>
                  <a:pt x="861" y="13570"/>
                  <a:pt x="893" y="13791"/>
                </a:cubicBezTo>
                <a:cubicBezTo>
                  <a:pt x="904" y="13870"/>
                  <a:pt x="912" y="13931"/>
                  <a:pt x="893" y="13940"/>
                </a:cubicBezTo>
              </a:path>
              <a:path w="919" h="869">
                <a:moveTo>
                  <a:pt x="372" y="13841"/>
                </a:moveTo>
                <a:cubicBezTo>
                  <a:pt x="539" y="13695"/>
                  <a:pt x="692" y="13531"/>
                  <a:pt x="868" y="13395"/>
                </a:cubicBezTo>
                <a:cubicBezTo>
                  <a:pt x="956" y="13327"/>
                  <a:pt x="1039" y="13275"/>
                  <a:pt x="1141" y="13246"/>
                </a:cubicBezTo>
              </a:path>
              <a:path w="919" h="869">
                <a:moveTo>
                  <a:pt x="1067" y="13097"/>
                </a:moveTo>
                <a:cubicBezTo>
                  <a:pt x="943" y="13158"/>
                  <a:pt x="909" y="13525"/>
                  <a:pt x="868" y="13643"/>
                </a:cubicBezTo>
                <a:cubicBezTo>
                  <a:pt x="834" y="13739"/>
                  <a:pt x="780" y="13884"/>
                  <a:pt x="719" y="13965"/>
                </a:cubicBezTo>
              </a:path>
              <a:path w="919" h="869">
                <a:moveTo>
                  <a:pt x="397" y="13345"/>
                </a:moveTo>
                <a:cubicBezTo>
                  <a:pt x="536" y="13373"/>
                  <a:pt x="672" y="13359"/>
                  <a:pt x="819" y="13370"/>
                </a:cubicBezTo>
                <a:cubicBezTo>
                  <a:pt x="1000" y="13384"/>
                  <a:pt x="1110" y="13454"/>
                  <a:pt x="1265" y="13519"/>
                </a:cubicBezTo>
                <a:cubicBezTo>
                  <a:pt x="1298" y="13519"/>
                  <a:pt x="1307" y="13511"/>
                  <a:pt x="1290" y="13469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: Compare and classify triangles by angle measure and sides.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um of Angle Measures of a Triang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um of the angle measures of a triangle is 180°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66880" y="3962520"/>
            <a:ext cx="4267440" cy="1752480"/>
          </a:xfrm>
          <a:prstGeom prst="rtTriangl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90920" y="39625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66880" y="5257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95880" y="54100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523880" y="3200400"/>
          <a:ext cx="3594240" cy="34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200400"/>
                    <a:ext cx="35942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1874880" y="3340080"/>
            <a:ext cx="2411280" cy="133200"/>
          </a:xfrm>
          <a:custGeom>
            <a:avLst/>
            <a:gdLst/>
            <a:ahLst/>
            <a:rect l="l" t="t" r="r" b="b"/>
            <a:pathLst>
              <a:path w="6698" h="373">
                <a:moveTo>
                  <a:pt x="5209" y="9426"/>
                </a:moveTo>
                <a:cubicBezTo>
                  <a:pt x="5368" y="9405"/>
                  <a:pt x="5523" y="9381"/>
                  <a:pt x="5680" y="9351"/>
                </a:cubicBezTo>
              </a:path>
              <a:path w="6698" h="373">
                <a:moveTo>
                  <a:pt x="6003" y="9426"/>
                </a:moveTo>
                <a:cubicBezTo>
                  <a:pt x="6152" y="9351"/>
                  <a:pt x="6201" y="9326"/>
                  <a:pt x="6300" y="9277"/>
                </a:cubicBezTo>
              </a:path>
              <a:path w="6698" h="373">
                <a:moveTo>
                  <a:pt x="8384" y="9302"/>
                </a:moveTo>
                <a:cubicBezTo>
                  <a:pt x="8410" y="9420"/>
                  <a:pt x="8427" y="9529"/>
                  <a:pt x="8434" y="9649"/>
                </a:cubicBezTo>
              </a:path>
              <a:path w="6698" h="373">
                <a:moveTo>
                  <a:pt x="8334" y="9451"/>
                </a:moveTo>
                <a:cubicBezTo>
                  <a:pt x="8458" y="9426"/>
                  <a:pt x="8499" y="9418"/>
                  <a:pt x="8582" y="9401"/>
                </a:cubicBezTo>
              </a:path>
              <a:path w="6698" h="373">
                <a:moveTo>
                  <a:pt x="11460" y="9451"/>
                </a:moveTo>
                <a:cubicBezTo>
                  <a:pt x="11664" y="9392"/>
                  <a:pt x="11754" y="9369"/>
                  <a:pt x="11906" y="9351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12880" y="3321000"/>
            <a:ext cx="231840" cy="233280"/>
          </a:xfrm>
          <a:custGeom>
            <a:avLst/>
            <a:gdLst/>
            <a:ahLst/>
            <a:rect l="l" t="t" r="r" b="b"/>
            <a:pathLst>
              <a:path w="646" h="646">
                <a:moveTo>
                  <a:pt x="2307" y="9401"/>
                </a:moveTo>
                <a:cubicBezTo>
                  <a:pt x="2323" y="9579"/>
                  <a:pt x="2304" y="9675"/>
                  <a:pt x="2257" y="9847"/>
                </a:cubicBezTo>
                <a:cubicBezTo>
                  <a:pt x="2257" y="9855"/>
                  <a:pt x="2257" y="9864"/>
                  <a:pt x="2257" y="9872"/>
                </a:cubicBezTo>
                <a:cubicBezTo>
                  <a:pt x="2257" y="9644"/>
                  <a:pt x="2238" y="9466"/>
                  <a:pt x="2381" y="9277"/>
                </a:cubicBezTo>
                <a:cubicBezTo>
                  <a:pt x="2528" y="9082"/>
                  <a:pt x="2617" y="9499"/>
                  <a:pt x="2629" y="9575"/>
                </a:cubicBezTo>
                <a:cubicBezTo>
                  <a:pt x="2629" y="9600"/>
                  <a:pt x="2629" y="9624"/>
                  <a:pt x="2629" y="9649"/>
                </a:cubicBezTo>
                <a:cubicBezTo>
                  <a:pt x="2629" y="9682"/>
                  <a:pt x="2629" y="9682"/>
                  <a:pt x="2629" y="9624"/>
                </a:cubicBezTo>
                <a:cubicBezTo>
                  <a:pt x="2617" y="9464"/>
                  <a:pt x="2561" y="9277"/>
                  <a:pt x="2753" y="9277"/>
                </a:cubicBezTo>
                <a:cubicBezTo>
                  <a:pt x="2843" y="9447"/>
                  <a:pt x="2855" y="9608"/>
                  <a:pt x="2902" y="9798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320840" y="3187800"/>
            <a:ext cx="1617480" cy="349200"/>
          </a:xfrm>
          <a:custGeom>
            <a:avLst/>
            <a:gdLst/>
            <a:ahLst/>
            <a:rect l="l" t="t" r="r" b="b"/>
            <a:pathLst>
              <a:path w="4491" h="969">
                <a:moveTo>
                  <a:pt x="4539" y="8855"/>
                </a:moveTo>
                <a:cubicBezTo>
                  <a:pt x="4343" y="9156"/>
                  <a:pt x="4041" y="9358"/>
                  <a:pt x="3746" y="9575"/>
                </a:cubicBezTo>
                <a:cubicBezTo>
                  <a:pt x="3721" y="9591"/>
                  <a:pt x="3696" y="9608"/>
                  <a:pt x="3671" y="9624"/>
                </a:cubicBezTo>
                <a:cubicBezTo>
                  <a:pt x="4002" y="9496"/>
                  <a:pt x="4306" y="9427"/>
                  <a:pt x="4663" y="9401"/>
                </a:cubicBezTo>
                <a:cubicBezTo>
                  <a:pt x="4779" y="9401"/>
                  <a:pt x="4796" y="9401"/>
                  <a:pt x="4862" y="9401"/>
                </a:cubicBezTo>
              </a:path>
              <a:path w="4491" h="969">
                <a:moveTo>
                  <a:pt x="5283" y="9103"/>
                </a:moveTo>
                <a:cubicBezTo>
                  <a:pt x="5283" y="9282"/>
                  <a:pt x="5220" y="9506"/>
                  <a:pt x="5159" y="9674"/>
                </a:cubicBezTo>
                <a:cubicBezTo>
                  <a:pt x="5143" y="9699"/>
                  <a:pt x="5126" y="9723"/>
                  <a:pt x="5110" y="9748"/>
                </a:cubicBezTo>
                <a:cubicBezTo>
                  <a:pt x="5241" y="9454"/>
                  <a:pt x="5377" y="9218"/>
                  <a:pt x="5556" y="8954"/>
                </a:cubicBezTo>
                <a:cubicBezTo>
                  <a:pt x="5556" y="8946"/>
                  <a:pt x="5556" y="8938"/>
                  <a:pt x="5556" y="8930"/>
                </a:cubicBezTo>
                <a:cubicBezTo>
                  <a:pt x="5678" y="9172"/>
                  <a:pt x="5664" y="9379"/>
                  <a:pt x="5631" y="9649"/>
                </a:cubicBezTo>
                <a:cubicBezTo>
                  <a:pt x="5628" y="9672"/>
                  <a:pt x="5613" y="9837"/>
                  <a:pt x="5581" y="9773"/>
                </a:cubicBezTo>
              </a:path>
              <a:path w="4491" h="969">
                <a:moveTo>
                  <a:pt x="6077" y="9178"/>
                </a:moveTo>
                <a:cubicBezTo>
                  <a:pt x="6077" y="9309"/>
                  <a:pt x="6095" y="9461"/>
                  <a:pt x="6052" y="9575"/>
                </a:cubicBezTo>
              </a:path>
              <a:path w="4491" h="969">
                <a:moveTo>
                  <a:pt x="6375" y="9451"/>
                </a:moveTo>
                <a:cubicBezTo>
                  <a:pt x="6361" y="9560"/>
                  <a:pt x="6350" y="9639"/>
                  <a:pt x="6350" y="9748"/>
                </a:cubicBezTo>
                <a:cubicBezTo>
                  <a:pt x="6350" y="9606"/>
                  <a:pt x="6393" y="9495"/>
                  <a:pt x="6474" y="9376"/>
                </a:cubicBezTo>
                <a:cubicBezTo>
                  <a:pt x="6589" y="9208"/>
                  <a:pt x="6573" y="9691"/>
                  <a:pt x="6573" y="9748"/>
                </a:cubicBezTo>
                <a:cubicBezTo>
                  <a:pt x="6484" y="9660"/>
                  <a:pt x="6584" y="9424"/>
                  <a:pt x="6672" y="9327"/>
                </a:cubicBezTo>
                <a:cubicBezTo>
                  <a:pt x="6852" y="9129"/>
                  <a:pt x="6842" y="9669"/>
                  <a:pt x="6846" y="9699"/>
                </a:cubicBezTo>
                <a:cubicBezTo>
                  <a:pt x="6854" y="9724"/>
                  <a:pt x="6863" y="9748"/>
                  <a:pt x="6871" y="9773"/>
                </a:cubicBezTo>
              </a:path>
              <a:path w="4491" h="969">
                <a:moveTo>
                  <a:pt x="7342" y="9029"/>
                </a:moveTo>
                <a:cubicBezTo>
                  <a:pt x="7245" y="9255"/>
                  <a:pt x="7076" y="9389"/>
                  <a:pt x="6921" y="9575"/>
                </a:cubicBezTo>
                <a:cubicBezTo>
                  <a:pt x="6899" y="9618"/>
                  <a:pt x="6886" y="9630"/>
                  <a:pt x="6921" y="9649"/>
                </a:cubicBezTo>
                <a:cubicBezTo>
                  <a:pt x="7142" y="9637"/>
                  <a:pt x="7367" y="9602"/>
                  <a:pt x="7590" y="9624"/>
                </a:cubicBezTo>
                <a:cubicBezTo>
                  <a:pt x="7672" y="9632"/>
                  <a:pt x="7695" y="9681"/>
                  <a:pt x="7714" y="9624"/>
                </a:cubicBezTo>
              </a:path>
              <a:path w="4491" h="969">
                <a:moveTo>
                  <a:pt x="7838" y="9227"/>
                </a:moveTo>
                <a:cubicBezTo>
                  <a:pt x="7838" y="9426"/>
                  <a:pt x="7838" y="9624"/>
                  <a:pt x="7838" y="9823"/>
                </a:cubicBezTo>
                <a:cubicBezTo>
                  <a:pt x="7810" y="9625"/>
                  <a:pt x="7782" y="9421"/>
                  <a:pt x="7863" y="9227"/>
                </a:cubicBezTo>
                <a:cubicBezTo>
                  <a:pt x="7945" y="9124"/>
                  <a:pt x="7953" y="9091"/>
                  <a:pt x="8037" y="9079"/>
                </a:cubicBezTo>
                <a:cubicBezTo>
                  <a:pt x="8086" y="9239"/>
                  <a:pt x="8022" y="9283"/>
                  <a:pt x="7913" y="9401"/>
                </a:cubicBezTo>
                <a:cubicBezTo>
                  <a:pt x="8003" y="9401"/>
                  <a:pt x="8227" y="9358"/>
                  <a:pt x="8161" y="9525"/>
                </a:cubicBezTo>
                <a:cubicBezTo>
                  <a:pt x="8115" y="9641"/>
                  <a:pt x="7804" y="9745"/>
                  <a:pt x="7813" y="9723"/>
                </a:cubicBezTo>
                <a:cubicBezTo>
                  <a:pt x="7838" y="9682"/>
                  <a:pt x="7863" y="9640"/>
                  <a:pt x="7888" y="9599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43160" y="3197160"/>
            <a:ext cx="1955880" cy="330120"/>
          </a:xfrm>
          <a:custGeom>
            <a:avLst/>
            <a:gdLst/>
            <a:ahLst/>
            <a:rect l="l" t="t" r="r" b="b"/>
            <a:pathLst>
              <a:path w="5433" h="919">
                <a:moveTo>
                  <a:pt x="8756" y="9475"/>
                </a:moveTo>
                <a:cubicBezTo>
                  <a:pt x="8751" y="9589"/>
                  <a:pt x="8744" y="9685"/>
                  <a:pt x="8731" y="9798"/>
                </a:cubicBezTo>
                <a:cubicBezTo>
                  <a:pt x="8731" y="9655"/>
                  <a:pt x="8716" y="9509"/>
                  <a:pt x="8830" y="9401"/>
                </a:cubicBezTo>
                <a:cubicBezTo>
                  <a:pt x="8918" y="9318"/>
                  <a:pt x="8952" y="9633"/>
                  <a:pt x="8954" y="9649"/>
                </a:cubicBezTo>
                <a:cubicBezTo>
                  <a:pt x="8954" y="9547"/>
                  <a:pt x="8959" y="9466"/>
                  <a:pt x="9004" y="9376"/>
                </a:cubicBezTo>
                <a:cubicBezTo>
                  <a:pt x="9159" y="9499"/>
                  <a:pt x="9171" y="9547"/>
                  <a:pt x="9103" y="9748"/>
                </a:cubicBezTo>
              </a:path>
              <a:path w="5433" h="919">
                <a:moveTo>
                  <a:pt x="9723" y="9128"/>
                </a:moveTo>
                <a:cubicBezTo>
                  <a:pt x="9673" y="9382"/>
                  <a:pt x="9512" y="9499"/>
                  <a:pt x="9327" y="9674"/>
                </a:cubicBezTo>
                <a:cubicBezTo>
                  <a:pt x="9310" y="9690"/>
                  <a:pt x="9294" y="9707"/>
                  <a:pt x="9277" y="9723"/>
                </a:cubicBezTo>
                <a:cubicBezTo>
                  <a:pt x="9600" y="9742"/>
                  <a:pt x="9954" y="9659"/>
                  <a:pt x="10294" y="9674"/>
                </a:cubicBezTo>
                <a:cubicBezTo>
                  <a:pt x="10369" y="9677"/>
                  <a:pt x="10394" y="9688"/>
                  <a:pt x="10468" y="9699"/>
                </a:cubicBezTo>
              </a:path>
              <a:path w="5433" h="919">
                <a:moveTo>
                  <a:pt x="10815" y="9128"/>
                </a:moveTo>
                <a:cubicBezTo>
                  <a:pt x="10759" y="9074"/>
                  <a:pt x="10763" y="9041"/>
                  <a:pt x="10716" y="8979"/>
                </a:cubicBezTo>
                <a:cubicBezTo>
                  <a:pt x="10518" y="9055"/>
                  <a:pt x="10344" y="9362"/>
                  <a:pt x="10468" y="9599"/>
                </a:cubicBezTo>
                <a:cubicBezTo>
                  <a:pt x="10591" y="9835"/>
                  <a:pt x="11011" y="9495"/>
                  <a:pt x="11137" y="9426"/>
                </a:cubicBezTo>
              </a:path>
              <a:path w="5433" h="919">
                <a:moveTo>
                  <a:pt x="11261" y="9351"/>
                </a:moveTo>
                <a:cubicBezTo>
                  <a:pt x="11405" y="9320"/>
                  <a:pt x="11535" y="9302"/>
                  <a:pt x="11683" y="9302"/>
                </a:cubicBezTo>
              </a:path>
              <a:path w="5433" h="919">
                <a:moveTo>
                  <a:pt x="12328" y="8905"/>
                </a:moveTo>
                <a:cubicBezTo>
                  <a:pt x="12328" y="8734"/>
                  <a:pt x="12252" y="9187"/>
                  <a:pt x="12204" y="9351"/>
                </a:cubicBezTo>
                <a:cubicBezTo>
                  <a:pt x="12144" y="9549"/>
                  <a:pt x="12131" y="9581"/>
                  <a:pt x="12105" y="9699"/>
                </a:cubicBezTo>
              </a:path>
              <a:path w="5433" h="919">
                <a:moveTo>
                  <a:pt x="12948" y="9029"/>
                </a:moveTo>
                <a:cubicBezTo>
                  <a:pt x="12811" y="9029"/>
                  <a:pt x="12710" y="9089"/>
                  <a:pt x="12626" y="9203"/>
                </a:cubicBezTo>
                <a:cubicBezTo>
                  <a:pt x="12618" y="9228"/>
                  <a:pt x="12609" y="9252"/>
                  <a:pt x="12601" y="9277"/>
                </a:cubicBezTo>
                <a:cubicBezTo>
                  <a:pt x="12688" y="9322"/>
                  <a:pt x="13151" y="9480"/>
                  <a:pt x="12973" y="9624"/>
                </a:cubicBezTo>
                <a:cubicBezTo>
                  <a:pt x="12818" y="9691"/>
                  <a:pt x="12781" y="9720"/>
                  <a:pt x="12675" y="9674"/>
                </a:cubicBezTo>
                <a:cubicBezTo>
                  <a:pt x="12757" y="9440"/>
                  <a:pt x="12916" y="9276"/>
                  <a:pt x="13022" y="9054"/>
                </a:cubicBezTo>
                <a:cubicBezTo>
                  <a:pt x="13022" y="9019"/>
                  <a:pt x="13013" y="9015"/>
                  <a:pt x="12973" y="9054"/>
                </a:cubicBezTo>
              </a:path>
              <a:path w="5433" h="919">
                <a:moveTo>
                  <a:pt x="13568" y="9029"/>
                </a:moveTo>
                <a:cubicBezTo>
                  <a:pt x="13369" y="9029"/>
                  <a:pt x="13264" y="9248"/>
                  <a:pt x="13246" y="9451"/>
                </a:cubicBezTo>
                <a:cubicBezTo>
                  <a:pt x="13268" y="9603"/>
                  <a:pt x="13267" y="9641"/>
                  <a:pt x="13320" y="9723"/>
                </a:cubicBezTo>
                <a:cubicBezTo>
                  <a:pt x="13518" y="9643"/>
                  <a:pt x="13851" y="9437"/>
                  <a:pt x="13692" y="9153"/>
                </a:cubicBezTo>
                <a:cubicBezTo>
                  <a:pt x="13633" y="9048"/>
                  <a:pt x="13479" y="9064"/>
                  <a:pt x="13395" y="9079"/>
                </a:cubicBezTo>
              </a:path>
              <a:path w="5433" h="919">
                <a:moveTo>
                  <a:pt x="14015" y="9029"/>
                </a:moveTo>
                <a:cubicBezTo>
                  <a:pt x="13982" y="9062"/>
                  <a:pt x="13878" y="9175"/>
                  <a:pt x="13965" y="9203"/>
                </a:cubicBezTo>
                <a:cubicBezTo>
                  <a:pt x="14068" y="9203"/>
                  <a:pt x="14105" y="9201"/>
                  <a:pt x="14163" y="9153"/>
                </a:cubicBezTo>
                <a:cubicBezTo>
                  <a:pt x="14123" y="9019"/>
                  <a:pt x="14055" y="9047"/>
                  <a:pt x="13915" y="9079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678040" y="4143240"/>
            <a:ext cx="457200" cy="277920"/>
          </a:xfrm>
          <a:custGeom>
            <a:avLst/>
            <a:gdLst/>
            <a:ahLst/>
            <a:rect l="l" t="t" r="r" b="b"/>
            <a:pathLst>
              <a:path w="1266" h="770">
                <a:moveTo>
                  <a:pt x="7441" y="12278"/>
                </a:moveTo>
                <a:cubicBezTo>
                  <a:pt x="7524" y="12238"/>
                  <a:pt x="7642" y="12232"/>
                  <a:pt x="7739" y="12204"/>
                </a:cubicBezTo>
                <a:cubicBezTo>
                  <a:pt x="7909" y="12154"/>
                  <a:pt x="8105" y="12090"/>
                  <a:pt x="8260" y="12005"/>
                </a:cubicBezTo>
                <a:cubicBezTo>
                  <a:pt x="8339" y="11962"/>
                  <a:pt x="8404" y="11898"/>
                  <a:pt x="8483" y="11857"/>
                </a:cubicBezTo>
                <a:cubicBezTo>
                  <a:pt x="8516" y="11840"/>
                  <a:pt x="8595" y="11774"/>
                  <a:pt x="8607" y="11733"/>
                </a:cubicBezTo>
                <a:cubicBezTo>
                  <a:pt x="8622" y="11682"/>
                  <a:pt x="8619" y="11659"/>
                  <a:pt x="8657" y="11609"/>
                </a:cubicBezTo>
                <a:cubicBezTo>
                  <a:pt x="8683" y="11575"/>
                  <a:pt x="8688" y="11545"/>
                  <a:pt x="8706" y="11509"/>
                </a:cubicBezTo>
              </a:path>
              <a:path w="1266" h="770">
                <a:moveTo>
                  <a:pt x="8086" y="11931"/>
                </a:moveTo>
                <a:cubicBezTo>
                  <a:pt x="8152" y="11997"/>
                  <a:pt x="8219" y="12063"/>
                  <a:pt x="8285" y="12129"/>
                </a:cubicBezTo>
                <a:cubicBezTo>
                  <a:pt x="8293" y="12137"/>
                  <a:pt x="8302" y="12146"/>
                  <a:pt x="8310" y="12154"/>
                </a:cubicBezTo>
                <a:cubicBezTo>
                  <a:pt x="8276" y="12221"/>
                  <a:pt x="8140" y="11968"/>
                  <a:pt x="8111" y="11931"/>
                </a:cubicBezTo>
                <a:cubicBezTo>
                  <a:pt x="8070" y="11879"/>
                  <a:pt x="8027" y="11866"/>
                  <a:pt x="8062" y="11832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276640" y="5241960"/>
            <a:ext cx="787320" cy="527040"/>
          </a:xfrm>
          <a:custGeom>
            <a:avLst/>
            <a:gdLst/>
            <a:ahLst/>
            <a:rect l="l" t="t" r="r" b="b"/>
            <a:pathLst>
              <a:path w="2184" h="1465">
                <a:moveTo>
                  <a:pt x="7417" y="14660"/>
                </a:moveTo>
                <a:cubicBezTo>
                  <a:pt x="7409" y="14668"/>
                  <a:pt x="7400" y="14676"/>
                  <a:pt x="7392" y="14684"/>
                </a:cubicBezTo>
                <a:cubicBezTo>
                  <a:pt x="7511" y="14684"/>
                  <a:pt x="7579" y="14654"/>
                  <a:pt x="7689" y="14635"/>
                </a:cubicBezTo>
                <a:cubicBezTo>
                  <a:pt x="7793" y="14617"/>
                  <a:pt x="7905" y="14610"/>
                  <a:pt x="8012" y="14610"/>
                </a:cubicBezTo>
                <a:cubicBezTo>
                  <a:pt x="8076" y="14610"/>
                  <a:pt x="8163" y="14558"/>
                  <a:pt x="8210" y="14560"/>
                </a:cubicBezTo>
                <a:cubicBezTo>
                  <a:pt x="8254" y="14562"/>
                  <a:pt x="8288" y="14582"/>
                  <a:pt x="8334" y="14585"/>
                </a:cubicBezTo>
                <a:cubicBezTo>
                  <a:pt x="8386" y="14588"/>
                  <a:pt x="8419" y="14604"/>
                  <a:pt x="8458" y="14610"/>
                </a:cubicBezTo>
                <a:cubicBezTo>
                  <a:pt x="8483" y="14610"/>
                  <a:pt x="8491" y="14610"/>
                  <a:pt x="8508" y="14610"/>
                </a:cubicBezTo>
                <a:cubicBezTo>
                  <a:pt x="8502" y="14672"/>
                  <a:pt x="8509" y="14692"/>
                  <a:pt x="8483" y="14759"/>
                </a:cubicBezTo>
                <a:cubicBezTo>
                  <a:pt x="8455" y="14832"/>
                  <a:pt x="8454" y="14887"/>
                  <a:pt x="8434" y="14957"/>
                </a:cubicBezTo>
                <a:cubicBezTo>
                  <a:pt x="8415" y="15025"/>
                  <a:pt x="8388" y="15084"/>
                  <a:pt x="8384" y="15156"/>
                </a:cubicBezTo>
                <a:cubicBezTo>
                  <a:pt x="8380" y="15228"/>
                  <a:pt x="8363" y="15285"/>
                  <a:pt x="8359" y="15354"/>
                </a:cubicBezTo>
                <a:cubicBezTo>
                  <a:pt x="8351" y="15492"/>
                  <a:pt x="8357" y="15627"/>
                  <a:pt x="8334" y="15751"/>
                </a:cubicBezTo>
                <a:cubicBezTo>
                  <a:pt x="8334" y="15776"/>
                  <a:pt x="8334" y="15784"/>
                  <a:pt x="8334" y="15801"/>
                </a:cubicBezTo>
              </a:path>
              <a:path w="2184" h="1465">
                <a:moveTo>
                  <a:pt x="6896" y="15503"/>
                </a:moveTo>
                <a:cubicBezTo>
                  <a:pt x="6862" y="15458"/>
                  <a:pt x="6696" y="15370"/>
                  <a:pt x="6623" y="15354"/>
                </a:cubicBezTo>
                <a:cubicBezTo>
                  <a:pt x="6401" y="15304"/>
                  <a:pt x="6274" y="15568"/>
                  <a:pt x="6325" y="15751"/>
                </a:cubicBezTo>
                <a:cubicBezTo>
                  <a:pt x="6350" y="15776"/>
                  <a:pt x="6375" y="15800"/>
                  <a:pt x="6400" y="15825"/>
                </a:cubicBezTo>
                <a:cubicBezTo>
                  <a:pt x="6597" y="15701"/>
                  <a:pt x="6660" y="15617"/>
                  <a:pt x="6648" y="15379"/>
                </a:cubicBezTo>
                <a:cubicBezTo>
                  <a:pt x="6731" y="15567"/>
                  <a:pt x="6796" y="15733"/>
                  <a:pt x="6821" y="15949"/>
                </a:cubicBezTo>
                <a:cubicBezTo>
                  <a:pt x="6821" y="16007"/>
                  <a:pt x="6804" y="16032"/>
                  <a:pt x="6846" y="16024"/>
                </a:cubicBezTo>
              </a:path>
              <a:path w="2184" h="1465">
                <a:moveTo>
                  <a:pt x="6945" y="15280"/>
                </a:moveTo>
                <a:cubicBezTo>
                  <a:pt x="6963" y="15452"/>
                  <a:pt x="6986" y="15662"/>
                  <a:pt x="7045" y="15825"/>
                </a:cubicBezTo>
                <a:cubicBezTo>
                  <a:pt x="7061" y="15850"/>
                  <a:pt x="7078" y="15875"/>
                  <a:pt x="7094" y="15900"/>
                </a:cubicBezTo>
                <a:cubicBezTo>
                  <a:pt x="7281" y="15832"/>
                  <a:pt x="7260" y="15655"/>
                  <a:pt x="7169" y="15478"/>
                </a:cubicBezTo>
                <a:cubicBezTo>
                  <a:pt x="7117" y="15377"/>
                  <a:pt x="7066" y="15350"/>
                  <a:pt x="6970" y="15329"/>
                </a:cubicBezTo>
              </a:path>
              <a:path w="2184" h="1465">
                <a:moveTo>
                  <a:pt x="7045" y="15056"/>
                </a:moveTo>
                <a:cubicBezTo>
                  <a:pt x="7024" y="15104"/>
                  <a:pt x="7020" y="15144"/>
                  <a:pt x="7020" y="15205"/>
                </a:cubicBezTo>
                <a:cubicBezTo>
                  <a:pt x="7091" y="15205"/>
                  <a:pt x="7236" y="15133"/>
                  <a:pt x="7119" y="15032"/>
                </a:cubicBezTo>
                <a:cubicBezTo>
                  <a:pt x="7094" y="15032"/>
                  <a:pt x="7086" y="15032"/>
                  <a:pt x="7069" y="15032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830920" y="5419800"/>
            <a:ext cx="339840" cy="287280"/>
          </a:xfrm>
          <a:custGeom>
            <a:avLst/>
            <a:gdLst/>
            <a:ahLst/>
            <a:rect l="l" t="t" r="r" b="b"/>
            <a:pathLst>
              <a:path w="944" h="795">
                <a:moveTo>
                  <a:pt x="16321" y="15850"/>
                </a:moveTo>
                <a:cubicBezTo>
                  <a:pt x="16305" y="15810"/>
                  <a:pt x="16302" y="15841"/>
                  <a:pt x="16321" y="15776"/>
                </a:cubicBezTo>
                <a:cubicBezTo>
                  <a:pt x="16338" y="15716"/>
                  <a:pt x="16353" y="15651"/>
                  <a:pt x="16396" y="15602"/>
                </a:cubicBezTo>
                <a:cubicBezTo>
                  <a:pt x="16450" y="15542"/>
                  <a:pt x="16502" y="15473"/>
                  <a:pt x="16545" y="15404"/>
                </a:cubicBezTo>
                <a:cubicBezTo>
                  <a:pt x="16591" y="15331"/>
                  <a:pt x="16632" y="15282"/>
                  <a:pt x="16694" y="15230"/>
                </a:cubicBezTo>
                <a:cubicBezTo>
                  <a:pt x="16738" y="15193"/>
                  <a:pt x="16811" y="15154"/>
                  <a:pt x="16867" y="15131"/>
                </a:cubicBezTo>
                <a:cubicBezTo>
                  <a:pt x="16942" y="15100"/>
                  <a:pt x="16964" y="15081"/>
                  <a:pt x="17041" y="15081"/>
                </a:cubicBezTo>
                <a:cubicBezTo>
                  <a:pt x="17073" y="15081"/>
                  <a:pt x="17084" y="15056"/>
                  <a:pt x="17140" y="15056"/>
                </a:cubicBezTo>
              </a:path>
              <a:path w="944" h="795">
                <a:moveTo>
                  <a:pt x="16197" y="15280"/>
                </a:moveTo>
                <a:cubicBezTo>
                  <a:pt x="16296" y="15403"/>
                  <a:pt x="16445" y="15456"/>
                  <a:pt x="16545" y="15577"/>
                </a:cubicBezTo>
                <a:cubicBezTo>
                  <a:pt x="16545" y="15585"/>
                  <a:pt x="16545" y="15594"/>
                  <a:pt x="16545" y="15602"/>
                </a:cubicBezTo>
                <a:cubicBezTo>
                  <a:pt x="16423" y="15509"/>
                  <a:pt x="16282" y="15429"/>
                  <a:pt x="16222" y="15280"/>
                </a:cubicBezTo>
                <a:cubicBezTo>
                  <a:pt x="16222" y="15272"/>
                  <a:pt x="16222" y="15263"/>
                  <a:pt x="16222" y="15255"/>
                </a:cubicBezTo>
                <a:cubicBezTo>
                  <a:pt x="16281" y="15294"/>
                  <a:pt x="16407" y="15457"/>
                  <a:pt x="16495" y="15528"/>
                </a:cubicBezTo>
                <a:cubicBezTo>
                  <a:pt x="16576" y="15588"/>
                  <a:pt x="16589" y="15603"/>
                  <a:pt x="16644" y="15627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03880" y="5197320"/>
            <a:ext cx="304920" cy="285840"/>
          </a:xfrm>
          <a:custGeom>
            <a:avLst/>
            <a:gdLst/>
            <a:ahLst/>
            <a:rect l="l" t="t" r="r" b="b"/>
            <a:pathLst>
              <a:path w="844" h="795">
                <a:moveTo>
                  <a:pt x="14734" y="14883"/>
                </a:moveTo>
                <a:cubicBezTo>
                  <a:pt x="14740" y="14921"/>
                  <a:pt x="14746" y="15068"/>
                  <a:pt x="14784" y="15081"/>
                </a:cubicBezTo>
                <a:cubicBezTo>
                  <a:pt x="14940" y="15133"/>
                  <a:pt x="15055" y="14956"/>
                  <a:pt x="15131" y="14858"/>
                </a:cubicBezTo>
              </a:path>
              <a:path w="844" h="795">
                <a:moveTo>
                  <a:pt x="14982" y="14684"/>
                </a:moveTo>
                <a:cubicBezTo>
                  <a:pt x="15001" y="14838"/>
                  <a:pt x="15038" y="15007"/>
                  <a:pt x="15081" y="15156"/>
                </a:cubicBezTo>
                <a:cubicBezTo>
                  <a:pt x="15089" y="15172"/>
                  <a:pt x="15098" y="15189"/>
                  <a:pt x="15106" y="15205"/>
                </a:cubicBezTo>
              </a:path>
              <a:path w="844" h="795">
                <a:moveTo>
                  <a:pt x="15180" y="14759"/>
                </a:moveTo>
                <a:cubicBezTo>
                  <a:pt x="15180" y="14940"/>
                  <a:pt x="15212" y="14878"/>
                  <a:pt x="15379" y="14932"/>
                </a:cubicBezTo>
                <a:cubicBezTo>
                  <a:pt x="15532" y="14982"/>
                  <a:pt x="15596" y="15150"/>
                  <a:pt x="15404" y="15230"/>
                </a:cubicBezTo>
                <a:cubicBezTo>
                  <a:pt x="15301" y="15230"/>
                  <a:pt x="15266" y="15227"/>
                  <a:pt x="15255" y="15131"/>
                </a:cubicBezTo>
              </a:path>
              <a:path w="844" h="795">
                <a:moveTo>
                  <a:pt x="15205" y="14709"/>
                </a:moveTo>
                <a:cubicBezTo>
                  <a:pt x="15261" y="14634"/>
                  <a:pt x="15319" y="14602"/>
                  <a:pt x="15404" y="14560"/>
                </a:cubicBezTo>
              </a:path>
              <a:path w="844" h="795">
                <a:moveTo>
                  <a:pt x="15478" y="14461"/>
                </a:moveTo>
                <a:cubicBezTo>
                  <a:pt x="15457" y="14557"/>
                  <a:pt x="15452" y="14614"/>
                  <a:pt x="15478" y="14709"/>
                </a:cubicBezTo>
                <a:cubicBezTo>
                  <a:pt x="15570" y="14640"/>
                  <a:pt x="15633" y="14560"/>
                  <a:pt x="15528" y="14461"/>
                </a:cubicBezTo>
                <a:cubicBezTo>
                  <a:pt x="15511" y="14453"/>
                  <a:pt x="15495" y="14444"/>
                  <a:pt x="15478" y="14436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30680" y="4473720"/>
            <a:ext cx="268200" cy="241200"/>
          </a:xfrm>
          <a:custGeom>
            <a:avLst/>
            <a:gdLst/>
            <a:ahLst/>
            <a:rect l="l" t="t" r="r" b="b"/>
            <a:pathLst>
              <a:path w="745" h="671">
                <a:moveTo>
                  <a:pt x="7863" y="12675"/>
                </a:moveTo>
                <a:cubicBezTo>
                  <a:pt x="7936" y="12748"/>
                  <a:pt x="7966" y="12812"/>
                  <a:pt x="7938" y="12923"/>
                </a:cubicBezTo>
                <a:cubicBezTo>
                  <a:pt x="7915" y="12946"/>
                  <a:pt x="7904" y="12954"/>
                  <a:pt x="7938" y="12948"/>
                </a:cubicBezTo>
                <a:cubicBezTo>
                  <a:pt x="8045" y="12824"/>
                  <a:pt x="8108" y="12879"/>
                  <a:pt x="8235" y="12849"/>
                </a:cubicBezTo>
                <a:cubicBezTo>
                  <a:pt x="8235" y="12841"/>
                  <a:pt x="8235" y="12832"/>
                  <a:pt x="8235" y="12824"/>
                </a:cubicBezTo>
              </a:path>
              <a:path w="745" h="671">
                <a:moveTo>
                  <a:pt x="8086" y="12526"/>
                </a:moveTo>
                <a:cubicBezTo>
                  <a:pt x="8109" y="12712"/>
                  <a:pt x="8178" y="12886"/>
                  <a:pt x="8210" y="13072"/>
                </a:cubicBezTo>
                <a:cubicBezTo>
                  <a:pt x="8210" y="13105"/>
                  <a:pt x="8210" y="13105"/>
                  <a:pt x="8210" y="13047"/>
                </a:cubicBezTo>
              </a:path>
              <a:path w="745" h="671">
                <a:moveTo>
                  <a:pt x="8434" y="12427"/>
                </a:moveTo>
                <a:cubicBezTo>
                  <a:pt x="8389" y="12494"/>
                  <a:pt x="8368" y="12575"/>
                  <a:pt x="8334" y="12650"/>
                </a:cubicBezTo>
                <a:cubicBezTo>
                  <a:pt x="8438" y="12650"/>
                  <a:pt x="8561" y="12602"/>
                  <a:pt x="8607" y="12725"/>
                </a:cubicBezTo>
                <a:cubicBezTo>
                  <a:pt x="8685" y="12932"/>
                  <a:pt x="8501" y="12927"/>
                  <a:pt x="8384" y="12874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17880" y="3963960"/>
            <a:ext cx="5599080" cy="509760"/>
          </a:xfrm>
          <a:custGeom>
            <a:avLst/>
            <a:gdLst/>
            <a:ahLst/>
            <a:rect l="l" t="t" r="r" b="b"/>
            <a:pathLst>
              <a:path w="15554" h="1415">
                <a:moveTo>
                  <a:pt x="8384" y="12427"/>
                </a:moveTo>
                <a:cubicBezTo>
                  <a:pt x="8484" y="12327"/>
                  <a:pt x="8518" y="12293"/>
                  <a:pt x="8607" y="12254"/>
                </a:cubicBezTo>
              </a:path>
              <a:path w="15554" h="1415">
                <a:moveTo>
                  <a:pt x="8781" y="12278"/>
                </a:moveTo>
                <a:cubicBezTo>
                  <a:pt x="8781" y="12361"/>
                  <a:pt x="8764" y="12394"/>
                  <a:pt x="8830" y="12378"/>
                </a:cubicBezTo>
                <a:cubicBezTo>
                  <a:pt x="8939" y="12242"/>
                  <a:pt x="8962" y="12176"/>
                  <a:pt x="8806" y="12105"/>
                </a:cubicBezTo>
              </a:path>
              <a:path w="15554" h="1415">
                <a:moveTo>
                  <a:pt x="21977" y="11782"/>
                </a:moveTo>
                <a:cubicBezTo>
                  <a:pt x="22076" y="11757"/>
                  <a:pt x="22109" y="11749"/>
                  <a:pt x="22175" y="11733"/>
                </a:cubicBezTo>
              </a:path>
              <a:path w="15554" h="1415">
                <a:moveTo>
                  <a:pt x="21927" y="12005"/>
                </a:moveTo>
                <a:cubicBezTo>
                  <a:pt x="22080" y="12005"/>
                  <a:pt x="22149" y="11995"/>
                  <a:pt x="22250" y="11931"/>
                </a:cubicBezTo>
              </a:path>
              <a:path w="15554" h="1415">
                <a:moveTo>
                  <a:pt x="22572" y="11708"/>
                </a:moveTo>
                <a:cubicBezTo>
                  <a:pt x="22551" y="11792"/>
                  <a:pt x="22536" y="11811"/>
                  <a:pt x="22572" y="11857"/>
                </a:cubicBezTo>
                <a:cubicBezTo>
                  <a:pt x="22767" y="11848"/>
                  <a:pt x="22830" y="11830"/>
                  <a:pt x="22994" y="11733"/>
                </a:cubicBezTo>
              </a:path>
              <a:path w="15554" h="1415">
                <a:moveTo>
                  <a:pt x="22895" y="11609"/>
                </a:moveTo>
                <a:cubicBezTo>
                  <a:pt x="22861" y="11778"/>
                  <a:pt x="22688" y="12260"/>
                  <a:pt x="22845" y="12179"/>
                </a:cubicBezTo>
              </a:path>
              <a:path w="15554" h="1415">
                <a:moveTo>
                  <a:pt x="23316" y="11485"/>
                </a:moveTo>
                <a:cubicBezTo>
                  <a:pt x="23448" y="11409"/>
                  <a:pt x="23581" y="11337"/>
                  <a:pt x="23713" y="11261"/>
                </a:cubicBezTo>
              </a:path>
              <a:path w="15554" h="1415">
                <a:moveTo>
                  <a:pt x="23887" y="11013"/>
                </a:moveTo>
                <a:cubicBezTo>
                  <a:pt x="23786" y="11140"/>
                  <a:pt x="23758" y="11167"/>
                  <a:pt x="23912" y="11237"/>
                </a:cubicBezTo>
                <a:cubicBezTo>
                  <a:pt x="23937" y="11162"/>
                  <a:pt x="23945" y="11138"/>
                  <a:pt x="23912" y="11088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991120" y="3268800"/>
            <a:ext cx="1063800" cy="1241280"/>
          </a:xfrm>
          <a:custGeom>
            <a:avLst/>
            <a:gdLst/>
            <a:ahLst/>
            <a:rect l="l" t="t" r="r" b="b"/>
            <a:pathLst>
              <a:path w="2953" h="3448">
                <a:moveTo>
                  <a:pt x="17338" y="9351"/>
                </a:moveTo>
                <a:cubicBezTo>
                  <a:pt x="17290" y="9699"/>
                  <a:pt x="16797" y="10562"/>
                  <a:pt x="17090" y="10368"/>
                </a:cubicBezTo>
                <a:cubicBezTo>
                  <a:pt x="17131" y="10310"/>
                  <a:pt x="17173" y="10253"/>
                  <a:pt x="17214" y="10195"/>
                </a:cubicBezTo>
              </a:path>
              <a:path w="2953" h="3448">
                <a:moveTo>
                  <a:pt x="17884" y="9277"/>
                </a:moveTo>
                <a:cubicBezTo>
                  <a:pt x="17510" y="9652"/>
                  <a:pt x="17701" y="9479"/>
                  <a:pt x="17934" y="9798"/>
                </a:cubicBezTo>
                <a:cubicBezTo>
                  <a:pt x="17985" y="9954"/>
                  <a:pt x="17998" y="10010"/>
                  <a:pt x="17884" y="10096"/>
                </a:cubicBezTo>
                <a:cubicBezTo>
                  <a:pt x="17834" y="10112"/>
                  <a:pt x="17785" y="10129"/>
                  <a:pt x="17735" y="10145"/>
                </a:cubicBezTo>
                <a:cubicBezTo>
                  <a:pt x="17708" y="9840"/>
                  <a:pt x="17883" y="9664"/>
                  <a:pt x="18058" y="9401"/>
                </a:cubicBezTo>
                <a:cubicBezTo>
                  <a:pt x="18066" y="9384"/>
                  <a:pt x="18075" y="9368"/>
                  <a:pt x="18083" y="9351"/>
                </a:cubicBezTo>
              </a:path>
              <a:path w="2953" h="3448">
                <a:moveTo>
                  <a:pt x="18554" y="9079"/>
                </a:moveTo>
                <a:cubicBezTo>
                  <a:pt x="18464" y="9337"/>
                  <a:pt x="18404" y="9552"/>
                  <a:pt x="18380" y="9823"/>
                </a:cubicBezTo>
                <a:cubicBezTo>
                  <a:pt x="18686" y="9883"/>
                  <a:pt x="18882" y="9604"/>
                  <a:pt x="18901" y="9252"/>
                </a:cubicBezTo>
                <a:cubicBezTo>
                  <a:pt x="18831" y="9147"/>
                  <a:pt x="18778" y="9127"/>
                  <a:pt x="18653" y="9203"/>
                </a:cubicBezTo>
              </a:path>
              <a:path w="2953" h="3448">
                <a:moveTo>
                  <a:pt x="18331" y="10740"/>
                </a:moveTo>
                <a:cubicBezTo>
                  <a:pt x="18331" y="10639"/>
                  <a:pt x="18252" y="10499"/>
                  <a:pt x="18132" y="10492"/>
                </a:cubicBezTo>
                <a:cubicBezTo>
                  <a:pt x="17862" y="10477"/>
                  <a:pt x="17873" y="10693"/>
                  <a:pt x="17859" y="10864"/>
                </a:cubicBezTo>
                <a:cubicBezTo>
                  <a:pt x="18142" y="10865"/>
                  <a:pt x="18206" y="10735"/>
                  <a:pt x="18355" y="10492"/>
                </a:cubicBezTo>
                <a:cubicBezTo>
                  <a:pt x="18335" y="10755"/>
                  <a:pt x="18262" y="11003"/>
                  <a:pt x="18231" y="11261"/>
                </a:cubicBezTo>
              </a:path>
              <a:path w="2953" h="3448">
                <a:moveTo>
                  <a:pt x="18777" y="10393"/>
                </a:moveTo>
                <a:cubicBezTo>
                  <a:pt x="18682" y="10650"/>
                  <a:pt x="18641" y="10773"/>
                  <a:pt x="18678" y="11038"/>
                </a:cubicBezTo>
                <a:cubicBezTo>
                  <a:pt x="18880" y="11014"/>
                  <a:pt x="19304" y="10733"/>
                  <a:pt x="19050" y="10443"/>
                </a:cubicBezTo>
                <a:cubicBezTo>
                  <a:pt x="18850" y="10414"/>
                  <a:pt x="18769" y="10419"/>
                  <a:pt x="18653" y="10542"/>
                </a:cubicBezTo>
              </a:path>
              <a:path w="2953" h="3448">
                <a:moveTo>
                  <a:pt x="16644" y="11807"/>
                </a:moveTo>
                <a:cubicBezTo>
                  <a:pt x="17445" y="11631"/>
                  <a:pt x="18237" y="11374"/>
                  <a:pt x="19050" y="11261"/>
                </a:cubicBezTo>
                <a:cubicBezTo>
                  <a:pt x="19382" y="11243"/>
                  <a:pt x="19419" y="11208"/>
                  <a:pt x="19596" y="11261"/>
                </a:cubicBezTo>
              </a:path>
              <a:path w="2953" h="3448">
                <a:moveTo>
                  <a:pt x="18678" y="11956"/>
                </a:moveTo>
                <a:cubicBezTo>
                  <a:pt x="18704" y="11760"/>
                  <a:pt x="18625" y="11699"/>
                  <a:pt x="18455" y="11906"/>
                </a:cubicBezTo>
                <a:cubicBezTo>
                  <a:pt x="18422" y="11964"/>
                  <a:pt x="18388" y="12022"/>
                  <a:pt x="18355" y="12080"/>
                </a:cubicBezTo>
                <a:cubicBezTo>
                  <a:pt x="18355" y="12096"/>
                  <a:pt x="18355" y="12113"/>
                  <a:pt x="18355" y="12129"/>
                </a:cubicBezTo>
                <a:cubicBezTo>
                  <a:pt x="18539" y="12049"/>
                  <a:pt x="18668" y="11931"/>
                  <a:pt x="18827" y="11832"/>
                </a:cubicBezTo>
                <a:cubicBezTo>
                  <a:pt x="18770" y="12066"/>
                  <a:pt x="18389" y="12492"/>
                  <a:pt x="18628" y="12526"/>
                </a:cubicBezTo>
                <a:cubicBezTo>
                  <a:pt x="18661" y="12501"/>
                  <a:pt x="18695" y="12477"/>
                  <a:pt x="18728" y="12452"/>
                </a:cubicBezTo>
              </a:path>
              <a:path w="2953" h="3448">
                <a:moveTo>
                  <a:pt x="19224" y="11857"/>
                </a:moveTo>
                <a:cubicBezTo>
                  <a:pt x="19130" y="12077"/>
                  <a:pt x="19091" y="12214"/>
                  <a:pt x="19075" y="12452"/>
                </a:cubicBezTo>
                <a:cubicBezTo>
                  <a:pt x="19321" y="12425"/>
                  <a:pt x="19490" y="12219"/>
                  <a:pt x="19397" y="11931"/>
                </a:cubicBezTo>
                <a:cubicBezTo>
                  <a:pt x="19346" y="11773"/>
                  <a:pt x="19253" y="11967"/>
                  <a:pt x="19248" y="12005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581960" y="4214880"/>
            <a:ext cx="204840" cy="196920"/>
          </a:xfrm>
          <a:custGeom>
            <a:avLst/>
            <a:gdLst/>
            <a:ahLst/>
            <a:rect l="l" t="t" r="r" b="b"/>
            <a:pathLst>
              <a:path w="572" h="547">
                <a:moveTo>
                  <a:pt x="21059" y="11807"/>
                </a:moveTo>
                <a:cubicBezTo>
                  <a:pt x="21181" y="11754"/>
                  <a:pt x="21296" y="11733"/>
                  <a:pt x="21431" y="11708"/>
                </a:cubicBezTo>
                <a:cubicBezTo>
                  <a:pt x="21415" y="11952"/>
                  <a:pt x="21184" y="11995"/>
                  <a:pt x="21084" y="12204"/>
                </a:cubicBezTo>
                <a:cubicBezTo>
                  <a:pt x="21092" y="12221"/>
                  <a:pt x="21101" y="12237"/>
                  <a:pt x="21109" y="12254"/>
                </a:cubicBezTo>
                <a:cubicBezTo>
                  <a:pt x="21306" y="12237"/>
                  <a:pt x="21469" y="12221"/>
                  <a:pt x="21630" y="12105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331120" y="4187880"/>
            <a:ext cx="135000" cy="179280"/>
          </a:xfrm>
          <a:custGeom>
            <a:avLst/>
            <a:gdLst/>
            <a:ahLst/>
            <a:rect l="l" t="t" r="r" b="b"/>
            <a:pathLst>
              <a:path w="373" h="497">
                <a:moveTo>
                  <a:pt x="23292" y="11633"/>
                </a:moveTo>
                <a:cubicBezTo>
                  <a:pt x="23220" y="11722"/>
                  <a:pt x="23187" y="11719"/>
                  <a:pt x="23192" y="11782"/>
                </a:cubicBezTo>
                <a:cubicBezTo>
                  <a:pt x="23361" y="11830"/>
                  <a:pt x="23409" y="11849"/>
                  <a:pt x="23515" y="11981"/>
                </a:cubicBezTo>
                <a:cubicBezTo>
                  <a:pt x="23342" y="12222"/>
                  <a:pt x="23288" y="12120"/>
                  <a:pt x="23143" y="11906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911920" y="3840120"/>
            <a:ext cx="1527120" cy="615960"/>
          </a:xfrm>
          <a:custGeom>
            <a:avLst/>
            <a:gdLst/>
            <a:ahLst/>
            <a:rect l="l" t="t" r="r" b="b"/>
            <a:pathLst>
              <a:path w="4242" h="1713">
                <a:moveTo>
                  <a:pt x="16421" y="10815"/>
                </a:moveTo>
                <a:cubicBezTo>
                  <a:pt x="16613" y="10765"/>
                  <a:pt x="16797" y="10712"/>
                  <a:pt x="16991" y="10666"/>
                </a:cubicBezTo>
              </a:path>
              <a:path w="4242" h="1713">
                <a:moveTo>
                  <a:pt x="20265" y="12129"/>
                </a:moveTo>
                <a:cubicBezTo>
                  <a:pt x="20389" y="12109"/>
                  <a:pt x="20525" y="12061"/>
                  <a:pt x="20638" y="12005"/>
                </a:cubicBezTo>
                <a:cubicBezTo>
                  <a:pt x="20646" y="11997"/>
                  <a:pt x="20654" y="11989"/>
                  <a:pt x="20662" y="11981"/>
                </a:cubicBezTo>
              </a:path>
              <a:path w="4242" h="1713">
                <a:moveTo>
                  <a:pt x="20265" y="11708"/>
                </a:moveTo>
                <a:cubicBezTo>
                  <a:pt x="20282" y="11724"/>
                  <a:pt x="20298" y="11741"/>
                  <a:pt x="20315" y="11757"/>
                </a:cubicBezTo>
              </a:path>
              <a:path w="4242" h="1713">
                <a:moveTo>
                  <a:pt x="20315" y="11757"/>
                </a:moveTo>
                <a:lnTo>
                  <a:pt x="20315" y="11757"/>
                </a:lnTo>
              </a:path>
              <a:path w="4242" h="1713">
                <a:moveTo>
                  <a:pt x="20315" y="12378"/>
                </a:moveTo>
                <a:lnTo>
                  <a:pt x="20315" y="12378"/>
                </a:ln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38200" y="2062080"/>
            <a:ext cx="7008840" cy="117720"/>
          </a:xfrm>
          <a:custGeom>
            <a:avLst/>
            <a:gdLst/>
            <a:ahLst/>
            <a:rect l="l" t="t" r="r" b="b"/>
            <a:pathLst>
              <a:path w="19472" h="323">
                <a:moveTo>
                  <a:pt x="3994" y="5829"/>
                </a:moveTo>
                <a:cubicBezTo>
                  <a:pt x="4025" y="5831"/>
                  <a:pt x="4038" y="5852"/>
                  <a:pt x="4093" y="5854"/>
                </a:cubicBezTo>
                <a:cubicBezTo>
                  <a:pt x="4411" y="5867"/>
                  <a:pt x="4711" y="5829"/>
                  <a:pt x="5011" y="5804"/>
                </a:cubicBezTo>
                <a:cubicBezTo>
                  <a:pt x="5136" y="5794"/>
                  <a:pt x="5256" y="5783"/>
                  <a:pt x="5383" y="5779"/>
                </a:cubicBezTo>
                <a:cubicBezTo>
                  <a:pt x="5603" y="5771"/>
                  <a:pt x="5811" y="5740"/>
                  <a:pt x="6028" y="5730"/>
                </a:cubicBezTo>
                <a:cubicBezTo>
                  <a:pt x="6376" y="5714"/>
                  <a:pt x="6721" y="5752"/>
                  <a:pt x="7069" y="5755"/>
                </a:cubicBezTo>
                <a:cubicBezTo>
                  <a:pt x="7988" y="5762"/>
                  <a:pt x="8887" y="5756"/>
                  <a:pt x="9798" y="5854"/>
                </a:cubicBezTo>
                <a:cubicBezTo>
                  <a:pt x="10013" y="5877"/>
                  <a:pt x="10226" y="5897"/>
                  <a:pt x="10443" y="5904"/>
                </a:cubicBezTo>
                <a:cubicBezTo>
                  <a:pt x="10833" y="5916"/>
                  <a:pt x="11220" y="5907"/>
                  <a:pt x="11609" y="5928"/>
                </a:cubicBezTo>
                <a:cubicBezTo>
                  <a:pt x="11806" y="5939"/>
                  <a:pt x="12007" y="5963"/>
                  <a:pt x="12204" y="5978"/>
                </a:cubicBezTo>
                <a:cubicBezTo>
                  <a:pt x="12427" y="5995"/>
                  <a:pt x="12649" y="6001"/>
                  <a:pt x="12874" y="6003"/>
                </a:cubicBezTo>
                <a:cubicBezTo>
                  <a:pt x="13240" y="6006"/>
                  <a:pt x="13601" y="5987"/>
                  <a:pt x="13965" y="5978"/>
                </a:cubicBezTo>
                <a:cubicBezTo>
                  <a:pt x="14389" y="5967"/>
                  <a:pt x="14808" y="5974"/>
                  <a:pt x="15230" y="5953"/>
                </a:cubicBezTo>
                <a:cubicBezTo>
                  <a:pt x="15446" y="5942"/>
                  <a:pt x="15659" y="5911"/>
                  <a:pt x="15875" y="5904"/>
                </a:cubicBezTo>
                <a:cubicBezTo>
                  <a:pt x="16716" y="5875"/>
                  <a:pt x="17568" y="5892"/>
                  <a:pt x="18405" y="5904"/>
                </a:cubicBezTo>
                <a:cubicBezTo>
                  <a:pt x="18687" y="5908"/>
                  <a:pt x="18967" y="5914"/>
                  <a:pt x="19248" y="5928"/>
                </a:cubicBezTo>
                <a:cubicBezTo>
                  <a:pt x="19530" y="5942"/>
                  <a:pt x="19809" y="5951"/>
                  <a:pt x="20092" y="5953"/>
                </a:cubicBezTo>
                <a:cubicBezTo>
                  <a:pt x="20444" y="5956"/>
                  <a:pt x="20785" y="5978"/>
                  <a:pt x="21134" y="6003"/>
                </a:cubicBezTo>
                <a:cubicBezTo>
                  <a:pt x="21366" y="6019"/>
                  <a:pt x="21595" y="6027"/>
                  <a:pt x="21828" y="6028"/>
                </a:cubicBezTo>
                <a:cubicBezTo>
                  <a:pt x="22366" y="6031"/>
                  <a:pt x="22905" y="6028"/>
                  <a:pt x="23440" y="6052"/>
                </a:cubicBezTo>
                <a:cubicBezTo>
                  <a:pt x="23448" y="6052"/>
                  <a:pt x="23457" y="6052"/>
                  <a:pt x="23465" y="6052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46080" y="2571840"/>
            <a:ext cx="1268640" cy="54000"/>
          </a:xfrm>
          <a:custGeom>
            <a:avLst/>
            <a:gdLst/>
            <a:ahLst/>
            <a:rect l="l" t="t" r="r" b="b"/>
            <a:pathLst>
              <a:path w="3524" h="150">
                <a:moveTo>
                  <a:pt x="2629" y="7293"/>
                </a:moveTo>
                <a:cubicBezTo>
                  <a:pt x="2847" y="7293"/>
                  <a:pt x="3058" y="7283"/>
                  <a:pt x="3274" y="7268"/>
                </a:cubicBezTo>
                <a:cubicBezTo>
                  <a:pt x="3497" y="7252"/>
                  <a:pt x="3723" y="7259"/>
                  <a:pt x="3944" y="7243"/>
                </a:cubicBezTo>
                <a:cubicBezTo>
                  <a:pt x="4126" y="7230"/>
                  <a:pt x="4309" y="7205"/>
                  <a:pt x="4490" y="7193"/>
                </a:cubicBezTo>
                <a:cubicBezTo>
                  <a:pt x="4648" y="7183"/>
                  <a:pt x="4801" y="7169"/>
                  <a:pt x="4961" y="7169"/>
                </a:cubicBezTo>
                <a:cubicBezTo>
                  <a:pt x="5097" y="7169"/>
                  <a:pt x="5223" y="7148"/>
                  <a:pt x="5358" y="7144"/>
                </a:cubicBezTo>
                <a:cubicBezTo>
                  <a:pt x="5622" y="7137"/>
                  <a:pt x="5888" y="7144"/>
                  <a:pt x="6152" y="7144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ll whether the angle measures are those of a triangle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so, classify the triangle as acute, right, obtuse or equiangular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) 90°, 35°, 56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) 75°, 60°, 45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) 120°, 23°, 37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) 100°, 25°, 35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241880" y="1347840"/>
            <a:ext cx="160200" cy="73080"/>
          </a:xfrm>
          <a:custGeom>
            <a:avLst/>
            <a:gdLst/>
            <a:ahLst/>
            <a:rect l="l" t="t" r="r" b="b"/>
            <a:pathLst>
              <a:path w="448" h="199">
                <a:moveTo>
                  <a:pt x="11782" y="3944"/>
                </a:moveTo>
                <a:cubicBezTo>
                  <a:pt x="11928" y="3871"/>
                  <a:pt x="12072" y="3785"/>
                  <a:pt x="12229" y="3746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14720" y="1554120"/>
            <a:ext cx="660240" cy="214200"/>
          </a:xfrm>
          <a:custGeom>
            <a:avLst/>
            <a:gdLst/>
            <a:ahLst/>
            <a:rect l="l" t="t" r="r" b="b"/>
            <a:pathLst>
              <a:path w="1836" h="596">
                <a:moveTo>
                  <a:pt x="6152" y="4589"/>
                </a:moveTo>
                <a:cubicBezTo>
                  <a:pt x="6180" y="4503"/>
                  <a:pt x="6229" y="4437"/>
                  <a:pt x="6325" y="4390"/>
                </a:cubicBezTo>
                <a:cubicBezTo>
                  <a:pt x="6479" y="4315"/>
                  <a:pt x="6727" y="4284"/>
                  <a:pt x="6896" y="4316"/>
                </a:cubicBezTo>
                <a:cubicBezTo>
                  <a:pt x="7052" y="4346"/>
                  <a:pt x="7182" y="4414"/>
                  <a:pt x="7317" y="4490"/>
                </a:cubicBezTo>
                <a:cubicBezTo>
                  <a:pt x="7369" y="4519"/>
                  <a:pt x="7409" y="4559"/>
                  <a:pt x="7441" y="4589"/>
                </a:cubicBezTo>
                <a:cubicBezTo>
                  <a:pt x="7483" y="4630"/>
                  <a:pt x="7491" y="4638"/>
                  <a:pt x="7516" y="4663"/>
                </a:cubicBezTo>
                <a:cubicBezTo>
                  <a:pt x="7522" y="4669"/>
                  <a:pt x="7574" y="4721"/>
                  <a:pt x="7541" y="4688"/>
                </a:cubicBezTo>
                <a:cubicBezTo>
                  <a:pt x="7493" y="4640"/>
                  <a:pt x="7452" y="4596"/>
                  <a:pt x="7392" y="4564"/>
                </a:cubicBezTo>
                <a:cubicBezTo>
                  <a:pt x="7297" y="4513"/>
                  <a:pt x="7158" y="4453"/>
                  <a:pt x="7045" y="4490"/>
                </a:cubicBezTo>
                <a:cubicBezTo>
                  <a:pt x="6953" y="4520"/>
                  <a:pt x="6872" y="4595"/>
                  <a:pt x="6772" y="4614"/>
                </a:cubicBezTo>
                <a:cubicBezTo>
                  <a:pt x="6723" y="4623"/>
                  <a:pt x="6666" y="4665"/>
                  <a:pt x="6623" y="4713"/>
                </a:cubicBezTo>
                <a:cubicBezTo>
                  <a:pt x="6591" y="4749"/>
                  <a:pt x="6509" y="4866"/>
                  <a:pt x="6499" y="4887"/>
                </a:cubicBezTo>
                <a:cubicBezTo>
                  <a:pt x="6499" y="4895"/>
                  <a:pt x="6499" y="4903"/>
                  <a:pt x="6499" y="4911"/>
                </a:cubicBezTo>
                <a:cubicBezTo>
                  <a:pt x="6468" y="4797"/>
                  <a:pt x="6449" y="4743"/>
                  <a:pt x="6548" y="4638"/>
                </a:cubicBezTo>
                <a:cubicBezTo>
                  <a:pt x="6687" y="4490"/>
                  <a:pt x="6888" y="4375"/>
                  <a:pt x="7094" y="4390"/>
                </a:cubicBezTo>
                <a:cubicBezTo>
                  <a:pt x="7207" y="4398"/>
                  <a:pt x="7453" y="4514"/>
                  <a:pt x="7541" y="4589"/>
                </a:cubicBezTo>
                <a:cubicBezTo>
                  <a:pt x="7611" y="4649"/>
                  <a:pt x="7609" y="4665"/>
                  <a:pt x="7689" y="4713"/>
                </a:cubicBezTo>
                <a:cubicBezTo>
                  <a:pt x="7781" y="4768"/>
                  <a:pt x="7863" y="4797"/>
                  <a:pt x="7962" y="4837"/>
                </a:cubicBezTo>
                <a:cubicBezTo>
                  <a:pt x="7860" y="4741"/>
                  <a:pt x="7726" y="4592"/>
                  <a:pt x="7590" y="4514"/>
                </a:cubicBezTo>
                <a:cubicBezTo>
                  <a:pt x="7418" y="4416"/>
                  <a:pt x="7189" y="4419"/>
                  <a:pt x="6995" y="4440"/>
                </a:cubicBezTo>
                <a:cubicBezTo>
                  <a:pt x="6857" y="4455"/>
                  <a:pt x="6719" y="4513"/>
                  <a:pt x="6598" y="4564"/>
                </a:cubicBezTo>
                <a:cubicBezTo>
                  <a:pt x="6581" y="4572"/>
                  <a:pt x="6565" y="4581"/>
                  <a:pt x="6548" y="4589"/>
                </a:cubicBezTo>
                <a:cubicBezTo>
                  <a:pt x="6534" y="4602"/>
                  <a:pt x="6359" y="4750"/>
                  <a:pt x="6474" y="4663"/>
                </a:cubicBezTo>
                <a:cubicBezTo>
                  <a:pt x="6687" y="4502"/>
                  <a:pt x="6967" y="4332"/>
                  <a:pt x="7243" y="4316"/>
                </a:cubicBezTo>
                <a:cubicBezTo>
                  <a:pt x="7471" y="4303"/>
                  <a:pt x="7710" y="4370"/>
                  <a:pt x="7913" y="4465"/>
                </a:cubicBezTo>
                <a:cubicBezTo>
                  <a:pt x="7948" y="4481"/>
                  <a:pt x="7969" y="4500"/>
                  <a:pt x="7987" y="4514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73680" y="1285920"/>
            <a:ext cx="758520" cy="812880"/>
          </a:xfrm>
          <a:custGeom>
            <a:avLst/>
            <a:gdLst/>
            <a:ahLst/>
            <a:rect l="l" t="t" r="r" b="b"/>
            <a:pathLst>
              <a:path w="2109" h="2258">
                <a:moveTo>
                  <a:pt x="11410" y="4142"/>
                </a:moveTo>
                <a:cubicBezTo>
                  <a:pt x="11461" y="4068"/>
                  <a:pt x="11550" y="4092"/>
                  <a:pt x="11633" y="4118"/>
                </a:cubicBezTo>
                <a:cubicBezTo>
                  <a:pt x="11614" y="4240"/>
                  <a:pt x="11599" y="4259"/>
                  <a:pt x="11509" y="4341"/>
                </a:cubicBezTo>
                <a:cubicBezTo>
                  <a:pt x="11659" y="4309"/>
                  <a:pt x="11822" y="4302"/>
                  <a:pt x="11683" y="4514"/>
                </a:cubicBezTo>
                <a:cubicBezTo>
                  <a:pt x="11596" y="4647"/>
                  <a:pt x="11492" y="4663"/>
                  <a:pt x="11361" y="4663"/>
                </a:cubicBezTo>
              </a:path>
              <a:path w="2109" h="2258">
                <a:moveTo>
                  <a:pt x="11832" y="4093"/>
                </a:moveTo>
                <a:cubicBezTo>
                  <a:pt x="11760" y="4259"/>
                  <a:pt x="11968" y="4128"/>
                  <a:pt x="12055" y="4142"/>
                </a:cubicBezTo>
                <a:cubicBezTo>
                  <a:pt x="12218" y="4168"/>
                  <a:pt x="12276" y="4395"/>
                  <a:pt x="12080" y="4415"/>
                </a:cubicBezTo>
                <a:cubicBezTo>
                  <a:pt x="11957" y="4390"/>
                  <a:pt x="11916" y="4382"/>
                  <a:pt x="11881" y="4291"/>
                </a:cubicBezTo>
              </a:path>
              <a:path w="2109" h="2258">
                <a:moveTo>
                  <a:pt x="11609" y="4986"/>
                </a:moveTo>
                <a:cubicBezTo>
                  <a:pt x="11573" y="5111"/>
                  <a:pt x="11713" y="5065"/>
                  <a:pt x="11807" y="5135"/>
                </a:cubicBezTo>
                <a:cubicBezTo>
                  <a:pt x="11956" y="5246"/>
                  <a:pt x="11639" y="5210"/>
                  <a:pt x="11633" y="5209"/>
                </a:cubicBezTo>
              </a:path>
              <a:path w="2109" h="2258">
                <a:moveTo>
                  <a:pt x="11609" y="4936"/>
                </a:moveTo>
                <a:cubicBezTo>
                  <a:pt x="11728" y="4845"/>
                  <a:pt x="11846" y="4776"/>
                  <a:pt x="11981" y="4713"/>
                </a:cubicBezTo>
              </a:path>
              <a:path w="2109" h="2258">
                <a:moveTo>
                  <a:pt x="12179" y="4564"/>
                </a:moveTo>
                <a:cubicBezTo>
                  <a:pt x="12179" y="4718"/>
                  <a:pt x="12171" y="4914"/>
                  <a:pt x="12229" y="5060"/>
                </a:cubicBezTo>
                <a:cubicBezTo>
                  <a:pt x="12294" y="5223"/>
                  <a:pt x="12577" y="5047"/>
                  <a:pt x="12626" y="4961"/>
                </a:cubicBezTo>
                <a:cubicBezTo>
                  <a:pt x="12692" y="4843"/>
                  <a:pt x="12655" y="4810"/>
                  <a:pt x="12576" y="4787"/>
                </a:cubicBezTo>
                <a:cubicBezTo>
                  <a:pt x="12524" y="4849"/>
                  <a:pt x="12367" y="5000"/>
                  <a:pt x="12452" y="5085"/>
                </a:cubicBezTo>
                <a:cubicBezTo>
                  <a:pt x="12460" y="5085"/>
                  <a:pt x="12469" y="5085"/>
                  <a:pt x="12477" y="5085"/>
                </a:cubicBezTo>
              </a:path>
              <a:path w="2109" h="2258">
                <a:moveTo>
                  <a:pt x="11336" y="5705"/>
                </a:moveTo>
                <a:cubicBezTo>
                  <a:pt x="11594" y="5591"/>
                  <a:pt x="11864" y="5465"/>
                  <a:pt x="12129" y="5358"/>
                </a:cubicBezTo>
                <a:cubicBezTo>
                  <a:pt x="12450" y="5228"/>
                  <a:pt x="12799" y="5096"/>
                  <a:pt x="13122" y="4986"/>
                </a:cubicBezTo>
                <a:cubicBezTo>
                  <a:pt x="13130" y="4986"/>
                  <a:pt x="13138" y="4986"/>
                  <a:pt x="13146" y="4986"/>
                </a:cubicBezTo>
              </a:path>
              <a:path w="2109" h="2258">
                <a:moveTo>
                  <a:pt x="12898" y="5407"/>
                </a:moveTo>
                <a:cubicBezTo>
                  <a:pt x="12942" y="5323"/>
                  <a:pt x="12981" y="5521"/>
                  <a:pt x="13022" y="5606"/>
                </a:cubicBezTo>
                <a:cubicBezTo>
                  <a:pt x="13061" y="5688"/>
                  <a:pt x="13122" y="5895"/>
                  <a:pt x="13122" y="5804"/>
                </a:cubicBezTo>
              </a:path>
              <a:path w="2109" h="2258">
                <a:moveTo>
                  <a:pt x="11038" y="3572"/>
                </a:moveTo>
                <a:cubicBezTo>
                  <a:pt x="11038" y="3654"/>
                  <a:pt x="11090" y="3716"/>
                  <a:pt x="11112" y="3795"/>
                </a:cubicBezTo>
                <a:cubicBezTo>
                  <a:pt x="11112" y="3823"/>
                  <a:pt x="11114" y="3834"/>
                  <a:pt x="11137" y="3845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90960" y="1847880"/>
            <a:ext cx="135000" cy="73080"/>
          </a:xfrm>
          <a:custGeom>
            <a:avLst/>
            <a:gdLst/>
            <a:ahLst/>
            <a:rect l="l" t="t" r="r" b="b"/>
            <a:pathLst>
              <a:path w="373" h="199">
                <a:moveTo>
                  <a:pt x="11088" y="5333"/>
                </a:moveTo>
                <a:cubicBezTo>
                  <a:pt x="11212" y="5265"/>
                  <a:pt x="11336" y="5203"/>
                  <a:pt x="11460" y="5135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438360" y="1652760"/>
            <a:ext cx="214560" cy="428400"/>
          </a:xfrm>
          <a:custGeom>
            <a:avLst/>
            <a:gdLst/>
            <a:ahLst/>
            <a:rect l="l" t="t" r="r" b="b"/>
            <a:pathLst>
              <a:path w="596" h="1191">
                <a:moveTo>
                  <a:pt x="9674" y="5159"/>
                </a:moveTo>
                <a:cubicBezTo>
                  <a:pt x="9719" y="5338"/>
                  <a:pt x="9794" y="5516"/>
                  <a:pt x="9798" y="5705"/>
                </a:cubicBezTo>
                <a:cubicBezTo>
                  <a:pt x="9790" y="5730"/>
                  <a:pt x="9781" y="5754"/>
                  <a:pt x="9773" y="5779"/>
                </a:cubicBezTo>
                <a:cubicBezTo>
                  <a:pt x="9689" y="5558"/>
                  <a:pt x="9631" y="5344"/>
                  <a:pt x="9575" y="5110"/>
                </a:cubicBezTo>
                <a:cubicBezTo>
                  <a:pt x="9567" y="5077"/>
                  <a:pt x="9558" y="5044"/>
                  <a:pt x="9550" y="5011"/>
                </a:cubicBezTo>
                <a:cubicBezTo>
                  <a:pt x="9705" y="5098"/>
                  <a:pt x="9841" y="5261"/>
                  <a:pt x="9971" y="5383"/>
                </a:cubicBezTo>
                <a:cubicBezTo>
                  <a:pt x="10071" y="5482"/>
                  <a:pt x="10087" y="5498"/>
                  <a:pt x="10145" y="5556"/>
                </a:cubicBezTo>
                <a:cubicBezTo>
                  <a:pt x="10099" y="5279"/>
                  <a:pt x="9966" y="5028"/>
                  <a:pt x="9872" y="4762"/>
                </a:cubicBezTo>
                <a:cubicBezTo>
                  <a:pt x="9837" y="4655"/>
                  <a:pt x="9820" y="4650"/>
                  <a:pt x="9823" y="4589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037040" y="1830240"/>
            <a:ext cx="17280" cy="115920"/>
          </a:xfrm>
          <a:custGeom>
            <a:avLst/>
            <a:gdLst/>
            <a:ahLst/>
            <a:rect l="l" t="t" r="r" b="b"/>
            <a:pathLst>
              <a:path w="50" h="323">
                <a:moveTo>
                  <a:pt x="11212" y="5085"/>
                </a:moveTo>
                <a:cubicBezTo>
                  <a:pt x="11238" y="5202"/>
                  <a:pt x="11261" y="5287"/>
                  <a:pt x="11261" y="5407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295880" y="1973160"/>
            <a:ext cx="204840" cy="223920"/>
          </a:xfrm>
          <a:custGeom>
            <a:avLst/>
            <a:gdLst/>
            <a:ahLst/>
            <a:rect l="l" t="t" r="r" b="b"/>
            <a:pathLst>
              <a:path w="572" h="621">
                <a:moveTo>
                  <a:pt x="12278" y="5680"/>
                </a:moveTo>
                <a:cubicBezTo>
                  <a:pt x="12336" y="5719"/>
                  <a:pt x="12280" y="5604"/>
                  <a:pt x="12229" y="5556"/>
                </a:cubicBezTo>
                <a:cubicBezTo>
                  <a:pt x="12157" y="5509"/>
                  <a:pt x="12136" y="5494"/>
                  <a:pt x="12080" y="5482"/>
                </a:cubicBezTo>
                <a:cubicBezTo>
                  <a:pt x="11932" y="5616"/>
                  <a:pt x="11929" y="5756"/>
                  <a:pt x="11981" y="5953"/>
                </a:cubicBezTo>
                <a:cubicBezTo>
                  <a:pt x="12181" y="5916"/>
                  <a:pt x="12219" y="5839"/>
                  <a:pt x="12254" y="5631"/>
                </a:cubicBezTo>
                <a:cubicBezTo>
                  <a:pt x="12255" y="5624"/>
                  <a:pt x="12254" y="5474"/>
                  <a:pt x="12254" y="5606"/>
                </a:cubicBezTo>
                <a:cubicBezTo>
                  <a:pt x="12319" y="5759"/>
                  <a:pt x="12370" y="5948"/>
                  <a:pt x="12477" y="6077"/>
                </a:cubicBezTo>
                <a:cubicBezTo>
                  <a:pt x="12485" y="6085"/>
                  <a:pt x="12494" y="6094"/>
                  <a:pt x="12502" y="6102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724280" y="2463840"/>
            <a:ext cx="293760" cy="277920"/>
          </a:xfrm>
          <a:custGeom>
            <a:avLst/>
            <a:gdLst/>
            <a:ahLst/>
            <a:rect l="l" t="t" r="r" b="b"/>
            <a:pathLst>
              <a:path w="819" h="770">
                <a:moveTo>
                  <a:pt x="13171" y="7144"/>
                </a:moveTo>
                <a:cubicBezTo>
                  <a:pt x="13179" y="7127"/>
                  <a:pt x="13188" y="7111"/>
                  <a:pt x="13196" y="7094"/>
                </a:cubicBezTo>
                <a:cubicBezTo>
                  <a:pt x="13176" y="7174"/>
                  <a:pt x="13146" y="7260"/>
                  <a:pt x="13122" y="7342"/>
                </a:cubicBezTo>
                <a:cubicBezTo>
                  <a:pt x="13214" y="7365"/>
                  <a:pt x="13335" y="7327"/>
                  <a:pt x="13444" y="7317"/>
                </a:cubicBezTo>
              </a:path>
              <a:path w="819" h="770">
                <a:moveTo>
                  <a:pt x="13444" y="7020"/>
                </a:moveTo>
                <a:cubicBezTo>
                  <a:pt x="13416" y="7221"/>
                  <a:pt x="13395" y="7412"/>
                  <a:pt x="13395" y="7615"/>
                </a:cubicBezTo>
                <a:cubicBezTo>
                  <a:pt x="13395" y="7607"/>
                  <a:pt x="13395" y="7598"/>
                  <a:pt x="13395" y="7590"/>
                </a:cubicBezTo>
              </a:path>
              <a:path w="819" h="770">
                <a:moveTo>
                  <a:pt x="13593" y="7144"/>
                </a:moveTo>
                <a:cubicBezTo>
                  <a:pt x="13593" y="7277"/>
                  <a:pt x="13714" y="7236"/>
                  <a:pt x="13791" y="7342"/>
                </a:cubicBezTo>
                <a:cubicBezTo>
                  <a:pt x="13927" y="7529"/>
                  <a:pt x="13623" y="7456"/>
                  <a:pt x="13568" y="7441"/>
                </a:cubicBezTo>
              </a:path>
              <a:path w="819" h="770">
                <a:moveTo>
                  <a:pt x="13618" y="7020"/>
                </a:moveTo>
                <a:cubicBezTo>
                  <a:pt x="13713" y="6969"/>
                  <a:pt x="13880" y="6856"/>
                  <a:pt x="13940" y="6871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2428920"/>
            <a:ext cx="1098720" cy="866880"/>
          </a:xfrm>
          <a:custGeom>
            <a:avLst/>
            <a:gdLst/>
            <a:ahLst/>
            <a:rect l="l" t="t" r="r" b="b"/>
            <a:pathLst>
              <a:path w="3052" h="2407">
                <a:moveTo>
                  <a:pt x="12700" y="7938"/>
                </a:moveTo>
                <a:cubicBezTo>
                  <a:pt x="12737" y="8063"/>
                  <a:pt x="12766" y="8185"/>
                  <a:pt x="12799" y="8310"/>
                </a:cubicBezTo>
              </a:path>
              <a:path w="3052" h="2407">
                <a:moveTo>
                  <a:pt x="13891" y="7615"/>
                </a:moveTo>
                <a:cubicBezTo>
                  <a:pt x="13832" y="7823"/>
                  <a:pt x="13768" y="7950"/>
                  <a:pt x="13915" y="8111"/>
                </a:cubicBezTo>
                <a:cubicBezTo>
                  <a:pt x="14049" y="8015"/>
                  <a:pt x="14280" y="7806"/>
                  <a:pt x="14089" y="7615"/>
                </a:cubicBezTo>
                <a:cubicBezTo>
                  <a:pt x="13970" y="7591"/>
                  <a:pt x="13933" y="7580"/>
                  <a:pt x="13866" y="7640"/>
                </a:cubicBezTo>
              </a:path>
              <a:path w="3052" h="2407">
                <a:moveTo>
                  <a:pt x="13171" y="8706"/>
                </a:moveTo>
                <a:cubicBezTo>
                  <a:pt x="13154" y="8856"/>
                  <a:pt x="13145" y="9005"/>
                  <a:pt x="13122" y="9153"/>
                </a:cubicBezTo>
              </a:path>
              <a:path w="3052" h="2407">
                <a:moveTo>
                  <a:pt x="15701" y="6747"/>
                </a:moveTo>
                <a:cubicBezTo>
                  <a:pt x="15734" y="6937"/>
                  <a:pt x="15784" y="7103"/>
                  <a:pt x="15701" y="7268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544920" y="2884320"/>
            <a:ext cx="285840" cy="330480"/>
          </a:xfrm>
          <a:custGeom>
            <a:avLst/>
            <a:gdLst/>
            <a:ahLst/>
            <a:rect l="l" t="t" r="r" b="b"/>
            <a:pathLst>
              <a:path w="795" h="919">
                <a:moveTo>
                  <a:pt x="9847" y="8558"/>
                </a:moveTo>
                <a:cubicBezTo>
                  <a:pt x="9906" y="8682"/>
                  <a:pt x="9962" y="8806"/>
                  <a:pt x="10021" y="8930"/>
                </a:cubicBezTo>
                <a:cubicBezTo>
                  <a:pt x="10173" y="8641"/>
                  <a:pt x="10280" y="8228"/>
                  <a:pt x="10542" y="8012"/>
                </a:cubicBezTo>
                <a:cubicBezTo>
                  <a:pt x="10575" y="8012"/>
                  <a:pt x="10608" y="8012"/>
                  <a:pt x="10641" y="8012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10080" y="2751120"/>
            <a:ext cx="633600" cy="320760"/>
          </a:xfrm>
          <a:custGeom>
            <a:avLst/>
            <a:gdLst/>
            <a:ahLst/>
            <a:rect l="l" t="t" r="r" b="b"/>
            <a:pathLst>
              <a:path w="1763" h="894">
                <a:moveTo>
                  <a:pt x="12650" y="8111"/>
                </a:moveTo>
                <a:cubicBezTo>
                  <a:pt x="12788" y="8035"/>
                  <a:pt x="12944" y="7981"/>
                  <a:pt x="13097" y="7938"/>
                </a:cubicBezTo>
              </a:path>
              <a:path w="1763" h="894">
                <a:moveTo>
                  <a:pt x="13320" y="7640"/>
                </a:moveTo>
                <a:cubicBezTo>
                  <a:pt x="13320" y="7793"/>
                  <a:pt x="13271" y="7964"/>
                  <a:pt x="13320" y="8111"/>
                </a:cubicBezTo>
                <a:cubicBezTo>
                  <a:pt x="13337" y="8136"/>
                  <a:pt x="13353" y="8161"/>
                  <a:pt x="13370" y="8186"/>
                </a:cubicBezTo>
                <a:cubicBezTo>
                  <a:pt x="13574" y="8127"/>
                  <a:pt x="13627" y="8037"/>
                  <a:pt x="13667" y="7838"/>
                </a:cubicBezTo>
                <a:cubicBezTo>
                  <a:pt x="13521" y="7822"/>
                  <a:pt x="13469" y="7957"/>
                  <a:pt x="13469" y="8111"/>
                </a:cubicBezTo>
                <a:cubicBezTo>
                  <a:pt x="13492" y="8201"/>
                  <a:pt x="13491" y="8234"/>
                  <a:pt x="13568" y="8210"/>
                </a:cubicBezTo>
              </a:path>
              <a:path w="1763" h="894">
                <a:moveTo>
                  <a:pt x="12526" y="8533"/>
                </a:moveTo>
                <a:cubicBezTo>
                  <a:pt x="12802" y="8417"/>
                  <a:pt x="13101" y="8371"/>
                  <a:pt x="13395" y="8310"/>
                </a:cubicBezTo>
                <a:cubicBezTo>
                  <a:pt x="13690" y="8249"/>
                  <a:pt x="13988" y="8184"/>
                  <a:pt x="14288" y="8161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473800" y="2394000"/>
            <a:ext cx="760320" cy="865080"/>
          </a:xfrm>
          <a:custGeom>
            <a:avLst/>
            <a:gdLst/>
            <a:ahLst/>
            <a:rect l="l" t="t" r="r" b="b"/>
            <a:pathLst>
              <a:path w="2110" h="2407">
                <a:moveTo>
                  <a:pt x="16024" y="6772"/>
                </a:moveTo>
                <a:cubicBezTo>
                  <a:pt x="15979" y="6978"/>
                  <a:pt x="15951" y="7021"/>
                  <a:pt x="16049" y="7193"/>
                </a:cubicBezTo>
                <a:cubicBezTo>
                  <a:pt x="16212" y="7143"/>
                  <a:pt x="16337" y="7009"/>
                  <a:pt x="16222" y="6821"/>
                </a:cubicBezTo>
                <a:cubicBezTo>
                  <a:pt x="16145" y="6770"/>
                  <a:pt x="16117" y="6754"/>
                  <a:pt x="16049" y="6772"/>
                </a:cubicBezTo>
              </a:path>
              <a:path w="2110" h="2407">
                <a:moveTo>
                  <a:pt x="16545" y="6648"/>
                </a:moveTo>
                <a:cubicBezTo>
                  <a:pt x="16416" y="6723"/>
                  <a:pt x="16446" y="6698"/>
                  <a:pt x="16446" y="6846"/>
                </a:cubicBezTo>
                <a:cubicBezTo>
                  <a:pt x="16446" y="6854"/>
                  <a:pt x="16446" y="6863"/>
                  <a:pt x="16446" y="6871"/>
                </a:cubicBezTo>
                <a:cubicBezTo>
                  <a:pt x="16552" y="6849"/>
                  <a:pt x="16640" y="6778"/>
                  <a:pt x="16743" y="6871"/>
                </a:cubicBezTo>
                <a:cubicBezTo>
                  <a:pt x="16888" y="7002"/>
                  <a:pt x="16523" y="7145"/>
                  <a:pt x="16470" y="7169"/>
                </a:cubicBezTo>
              </a:path>
              <a:path w="2110" h="2407">
                <a:moveTo>
                  <a:pt x="15280" y="7764"/>
                </a:moveTo>
                <a:cubicBezTo>
                  <a:pt x="15291" y="7813"/>
                  <a:pt x="15424" y="8087"/>
                  <a:pt x="15379" y="8136"/>
                </a:cubicBezTo>
                <a:cubicBezTo>
                  <a:pt x="15362" y="8128"/>
                  <a:pt x="15346" y="8119"/>
                  <a:pt x="15329" y="8111"/>
                </a:cubicBezTo>
              </a:path>
              <a:path w="2110" h="2407">
                <a:moveTo>
                  <a:pt x="15205" y="7987"/>
                </a:moveTo>
                <a:cubicBezTo>
                  <a:pt x="15354" y="7938"/>
                  <a:pt x="15404" y="7922"/>
                  <a:pt x="15503" y="7888"/>
                </a:cubicBezTo>
              </a:path>
              <a:path w="2110" h="2407">
                <a:moveTo>
                  <a:pt x="16123" y="7590"/>
                </a:moveTo>
                <a:cubicBezTo>
                  <a:pt x="16232" y="7572"/>
                  <a:pt x="16340" y="7526"/>
                  <a:pt x="16446" y="7491"/>
                </a:cubicBezTo>
                <a:cubicBezTo>
                  <a:pt x="16446" y="7630"/>
                  <a:pt x="16404" y="7778"/>
                  <a:pt x="16371" y="7913"/>
                </a:cubicBezTo>
                <a:cubicBezTo>
                  <a:pt x="16352" y="7970"/>
                  <a:pt x="16326" y="7995"/>
                  <a:pt x="16371" y="7987"/>
                </a:cubicBezTo>
              </a:path>
              <a:path w="2110" h="2407">
                <a:moveTo>
                  <a:pt x="16892" y="7367"/>
                </a:moveTo>
                <a:cubicBezTo>
                  <a:pt x="16848" y="7400"/>
                  <a:pt x="16728" y="7464"/>
                  <a:pt x="16718" y="7491"/>
                </a:cubicBezTo>
                <a:cubicBezTo>
                  <a:pt x="16694" y="7564"/>
                  <a:pt x="16686" y="7588"/>
                  <a:pt x="16694" y="7640"/>
                </a:cubicBezTo>
                <a:cubicBezTo>
                  <a:pt x="16761" y="7692"/>
                  <a:pt x="16857" y="7657"/>
                  <a:pt x="16942" y="7689"/>
                </a:cubicBezTo>
                <a:cubicBezTo>
                  <a:pt x="17112" y="7754"/>
                  <a:pt x="16796" y="7884"/>
                  <a:pt x="16768" y="7888"/>
                </a:cubicBezTo>
                <a:cubicBezTo>
                  <a:pt x="16735" y="7888"/>
                  <a:pt x="16702" y="7888"/>
                  <a:pt x="16669" y="7888"/>
                </a:cubicBezTo>
              </a:path>
              <a:path w="2110" h="2407">
                <a:moveTo>
                  <a:pt x="15553" y="8359"/>
                </a:moveTo>
                <a:cubicBezTo>
                  <a:pt x="15995" y="8237"/>
                  <a:pt x="16463" y="8077"/>
                  <a:pt x="16917" y="8012"/>
                </a:cubicBezTo>
                <a:cubicBezTo>
                  <a:pt x="17066" y="8012"/>
                  <a:pt x="17082" y="8012"/>
                  <a:pt x="17165" y="8012"/>
                </a:cubicBezTo>
              </a:path>
              <a:path w="2110" h="2407">
                <a:moveTo>
                  <a:pt x="15627" y="8508"/>
                </a:moveTo>
                <a:cubicBezTo>
                  <a:pt x="15649" y="8691"/>
                  <a:pt x="15443" y="9055"/>
                  <a:pt x="15627" y="9054"/>
                </a:cubicBezTo>
                <a:cubicBezTo>
                  <a:pt x="15644" y="9029"/>
                  <a:pt x="15660" y="9004"/>
                  <a:pt x="15677" y="8979"/>
                </a:cubicBezTo>
              </a:path>
              <a:path w="2110" h="2407">
                <a:moveTo>
                  <a:pt x="16371" y="8409"/>
                </a:moveTo>
                <a:cubicBezTo>
                  <a:pt x="16303" y="8477"/>
                  <a:pt x="16021" y="8659"/>
                  <a:pt x="16173" y="8756"/>
                </a:cubicBezTo>
                <a:cubicBezTo>
                  <a:pt x="16287" y="8802"/>
                  <a:pt x="16318" y="8816"/>
                  <a:pt x="16396" y="8830"/>
                </a:cubicBezTo>
                <a:cubicBezTo>
                  <a:pt x="16335" y="8932"/>
                  <a:pt x="16205" y="8936"/>
                  <a:pt x="16197" y="8781"/>
                </a:cubicBezTo>
                <a:cubicBezTo>
                  <a:pt x="16193" y="8698"/>
                  <a:pt x="16234" y="8530"/>
                  <a:pt x="16321" y="8508"/>
                </a:cubicBezTo>
              </a:path>
              <a:path w="2110" h="2407">
                <a:moveTo>
                  <a:pt x="16694" y="8458"/>
                </a:moveTo>
                <a:cubicBezTo>
                  <a:pt x="16632" y="8590"/>
                  <a:pt x="16577" y="8699"/>
                  <a:pt x="16669" y="8806"/>
                </a:cubicBezTo>
                <a:cubicBezTo>
                  <a:pt x="16762" y="8767"/>
                  <a:pt x="17097" y="8599"/>
                  <a:pt x="16892" y="8458"/>
                </a:cubicBezTo>
                <a:cubicBezTo>
                  <a:pt x="16785" y="8437"/>
                  <a:pt x="16761" y="8429"/>
                  <a:pt x="16694" y="8434"/>
                </a:cubicBezTo>
              </a:path>
              <a:path w="2110" h="2407">
                <a:moveTo>
                  <a:pt x="17214" y="8186"/>
                </a:moveTo>
                <a:cubicBezTo>
                  <a:pt x="17214" y="8210"/>
                  <a:pt x="17214" y="8219"/>
                  <a:pt x="17214" y="8235"/>
                </a:cubicBezTo>
                <a:cubicBezTo>
                  <a:pt x="17310" y="8251"/>
                  <a:pt x="17358" y="8165"/>
                  <a:pt x="17239" y="8136"/>
                </a:cubicBezTo>
                <a:cubicBezTo>
                  <a:pt x="17231" y="8136"/>
                  <a:pt x="17222" y="8136"/>
                  <a:pt x="17214" y="8136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848120" y="3054240"/>
            <a:ext cx="268560" cy="241560"/>
          </a:xfrm>
          <a:custGeom>
            <a:avLst/>
            <a:gdLst/>
            <a:ahLst/>
            <a:rect l="l" t="t" r="r" b="b"/>
            <a:pathLst>
              <a:path w="745" h="671">
                <a:moveTo>
                  <a:pt x="13568" y="8582"/>
                </a:moveTo>
                <a:cubicBezTo>
                  <a:pt x="13545" y="8742"/>
                  <a:pt x="13486" y="8891"/>
                  <a:pt x="13469" y="9054"/>
                </a:cubicBezTo>
                <a:cubicBezTo>
                  <a:pt x="13469" y="9087"/>
                  <a:pt x="13469" y="9120"/>
                  <a:pt x="13469" y="9153"/>
                </a:cubicBezTo>
                <a:cubicBezTo>
                  <a:pt x="13582" y="9105"/>
                  <a:pt x="13702" y="8978"/>
                  <a:pt x="13667" y="8830"/>
                </a:cubicBezTo>
                <a:cubicBezTo>
                  <a:pt x="13633" y="8685"/>
                  <a:pt x="13562" y="8697"/>
                  <a:pt x="13494" y="8756"/>
                </a:cubicBezTo>
              </a:path>
              <a:path w="745" h="671">
                <a:moveTo>
                  <a:pt x="14163" y="8483"/>
                </a:moveTo>
                <a:cubicBezTo>
                  <a:pt x="14087" y="8513"/>
                  <a:pt x="13913" y="8546"/>
                  <a:pt x="13866" y="8607"/>
                </a:cubicBezTo>
                <a:cubicBezTo>
                  <a:pt x="13824" y="8661"/>
                  <a:pt x="13841" y="8764"/>
                  <a:pt x="13841" y="8830"/>
                </a:cubicBezTo>
                <a:cubicBezTo>
                  <a:pt x="13953" y="8818"/>
                  <a:pt x="14024" y="8742"/>
                  <a:pt x="14139" y="8756"/>
                </a:cubicBezTo>
                <a:cubicBezTo>
                  <a:pt x="14276" y="8773"/>
                  <a:pt x="14205" y="8983"/>
                  <a:pt x="14139" y="9029"/>
                </a:cubicBezTo>
                <a:cubicBezTo>
                  <a:pt x="14074" y="9074"/>
                  <a:pt x="13965" y="9054"/>
                  <a:pt x="13891" y="9054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33880" y="4152960"/>
            <a:ext cx="339840" cy="312840"/>
          </a:xfrm>
          <a:custGeom>
            <a:avLst/>
            <a:gdLst/>
            <a:ahLst/>
            <a:rect l="l" t="t" r="r" b="b"/>
            <a:pathLst>
              <a:path w="943" h="869">
                <a:moveTo>
                  <a:pt x="11485" y="11906"/>
                </a:moveTo>
                <a:cubicBezTo>
                  <a:pt x="11611" y="12065"/>
                  <a:pt x="11576" y="12157"/>
                  <a:pt x="11559" y="12353"/>
                </a:cubicBezTo>
                <a:cubicBezTo>
                  <a:pt x="11559" y="12369"/>
                  <a:pt x="11559" y="12386"/>
                  <a:pt x="11559" y="12402"/>
                </a:cubicBezTo>
                <a:cubicBezTo>
                  <a:pt x="11770" y="12057"/>
                  <a:pt x="11977" y="11771"/>
                  <a:pt x="12328" y="11559"/>
                </a:cubicBezTo>
                <a:cubicBezTo>
                  <a:pt x="12361" y="11551"/>
                  <a:pt x="12394" y="11542"/>
                  <a:pt x="12427" y="11534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259240" y="3894120"/>
            <a:ext cx="420840" cy="293760"/>
          </a:xfrm>
          <a:custGeom>
            <a:avLst/>
            <a:gdLst/>
            <a:ahLst/>
            <a:rect l="l" t="t" r="r" b="b"/>
            <a:pathLst>
              <a:path w="1167" h="819">
                <a:moveTo>
                  <a:pt x="14833" y="11013"/>
                </a:moveTo>
                <a:cubicBezTo>
                  <a:pt x="14896" y="10950"/>
                  <a:pt x="14982" y="10939"/>
                  <a:pt x="15081" y="10914"/>
                </a:cubicBezTo>
                <a:cubicBezTo>
                  <a:pt x="15120" y="11048"/>
                  <a:pt x="15114" y="11132"/>
                  <a:pt x="14957" y="11212"/>
                </a:cubicBezTo>
                <a:cubicBezTo>
                  <a:pt x="14918" y="11232"/>
                  <a:pt x="14982" y="11201"/>
                  <a:pt x="14957" y="11237"/>
                </a:cubicBezTo>
                <a:cubicBezTo>
                  <a:pt x="14823" y="11429"/>
                  <a:pt x="14781" y="11481"/>
                  <a:pt x="14610" y="11633"/>
                </a:cubicBezTo>
                <a:cubicBezTo>
                  <a:pt x="14735" y="11552"/>
                  <a:pt x="14848" y="11474"/>
                  <a:pt x="15007" y="11509"/>
                </a:cubicBezTo>
                <a:cubicBezTo>
                  <a:pt x="15167" y="11544"/>
                  <a:pt x="15173" y="11440"/>
                  <a:pt x="15280" y="11311"/>
                </a:cubicBezTo>
              </a:path>
              <a:path w="1167" h="819">
                <a:moveTo>
                  <a:pt x="15404" y="10889"/>
                </a:moveTo>
                <a:cubicBezTo>
                  <a:pt x="15505" y="10855"/>
                  <a:pt x="15598" y="10829"/>
                  <a:pt x="15701" y="10815"/>
                </a:cubicBezTo>
                <a:cubicBezTo>
                  <a:pt x="15577" y="11047"/>
                  <a:pt x="15525" y="10920"/>
                  <a:pt x="15677" y="11013"/>
                </a:cubicBezTo>
                <a:cubicBezTo>
                  <a:pt x="15976" y="11198"/>
                  <a:pt x="15482" y="11410"/>
                  <a:pt x="15354" y="11485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143680" y="4268880"/>
            <a:ext cx="2393640" cy="366480"/>
          </a:xfrm>
          <a:custGeom>
            <a:avLst/>
            <a:gdLst/>
            <a:ahLst/>
            <a:rect l="l" t="t" r="r" b="b"/>
            <a:pathLst>
              <a:path w="6648" h="1018">
                <a:moveTo>
                  <a:pt x="14387" y="11857"/>
                </a:moveTo>
                <a:cubicBezTo>
                  <a:pt x="14422" y="11979"/>
                  <a:pt x="14450" y="12078"/>
                  <a:pt x="14461" y="12204"/>
                </a:cubicBezTo>
              </a:path>
              <a:path w="6648" h="1018">
                <a:moveTo>
                  <a:pt x="14288" y="12055"/>
                </a:moveTo>
                <a:cubicBezTo>
                  <a:pt x="14463" y="12020"/>
                  <a:pt x="14554" y="11998"/>
                  <a:pt x="14684" y="11956"/>
                </a:cubicBezTo>
              </a:path>
              <a:path w="6648" h="1018">
                <a:moveTo>
                  <a:pt x="14684" y="11956"/>
                </a:moveTo>
                <a:lnTo>
                  <a:pt x="14684" y="11956"/>
                </a:lnTo>
              </a:path>
              <a:path w="6648" h="1018">
                <a:moveTo>
                  <a:pt x="15677" y="12551"/>
                </a:moveTo>
                <a:cubicBezTo>
                  <a:pt x="15588" y="12706"/>
                  <a:pt x="15546" y="12743"/>
                  <a:pt x="15627" y="12849"/>
                </a:cubicBezTo>
                <a:cubicBezTo>
                  <a:pt x="15769" y="12844"/>
                  <a:pt x="16283" y="12725"/>
                  <a:pt x="15949" y="12502"/>
                </a:cubicBezTo>
                <a:cubicBezTo>
                  <a:pt x="15900" y="12494"/>
                  <a:pt x="15850" y="12485"/>
                  <a:pt x="15801" y="12477"/>
                </a:cubicBezTo>
              </a:path>
              <a:path w="6648" h="1018">
                <a:moveTo>
                  <a:pt x="16644" y="12427"/>
                </a:moveTo>
                <a:cubicBezTo>
                  <a:pt x="16670" y="12545"/>
                  <a:pt x="16687" y="12654"/>
                  <a:pt x="16694" y="12774"/>
                </a:cubicBezTo>
              </a:path>
              <a:path w="6648" h="1018">
                <a:moveTo>
                  <a:pt x="16669" y="12626"/>
                </a:moveTo>
                <a:cubicBezTo>
                  <a:pt x="16905" y="12573"/>
                  <a:pt x="16991" y="12552"/>
                  <a:pt x="17140" y="12477"/>
                </a:cubicBezTo>
              </a:path>
              <a:path w="6648" h="1018">
                <a:moveTo>
                  <a:pt x="17264" y="12452"/>
                </a:moveTo>
                <a:cubicBezTo>
                  <a:pt x="17309" y="12608"/>
                  <a:pt x="17322" y="12649"/>
                  <a:pt x="17338" y="12750"/>
                </a:cubicBezTo>
              </a:path>
              <a:path w="6648" h="1018">
                <a:moveTo>
                  <a:pt x="17338" y="12750"/>
                </a:moveTo>
                <a:lnTo>
                  <a:pt x="17338" y="12750"/>
                </a:lnTo>
              </a:path>
              <a:path w="6648" h="1018">
                <a:moveTo>
                  <a:pt x="19372" y="12353"/>
                </a:moveTo>
                <a:cubicBezTo>
                  <a:pt x="19487" y="12376"/>
                  <a:pt x="19520" y="12385"/>
                  <a:pt x="19596" y="12378"/>
                </a:cubicBezTo>
              </a:path>
              <a:path w="6648" h="1018">
                <a:moveTo>
                  <a:pt x="19472" y="12576"/>
                </a:moveTo>
                <a:cubicBezTo>
                  <a:pt x="19596" y="12568"/>
                  <a:pt x="19720" y="12559"/>
                  <a:pt x="19844" y="12551"/>
                </a:cubicBezTo>
              </a:path>
              <a:path w="6648" h="1018">
                <a:moveTo>
                  <a:pt x="19844" y="12551"/>
                </a:moveTo>
                <a:lnTo>
                  <a:pt x="19844" y="12551"/>
                </a:lnTo>
              </a:path>
              <a:path w="6648" h="1018">
                <a:moveTo>
                  <a:pt x="20786" y="12378"/>
                </a:moveTo>
                <a:cubicBezTo>
                  <a:pt x="20825" y="12528"/>
                  <a:pt x="20847" y="12664"/>
                  <a:pt x="20935" y="12774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80040" y="4214880"/>
            <a:ext cx="884160" cy="438120"/>
          </a:xfrm>
          <a:custGeom>
            <a:avLst/>
            <a:gdLst/>
            <a:ahLst/>
            <a:rect l="l" t="t" r="r" b="b"/>
            <a:pathLst>
              <a:path w="2456" h="1216">
                <a:moveTo>
                  <a:pt x="15032" y="11857"/>
                </a:moveTo>
                <a:cubicBezTo>
                  <a:pt x="15082" y="11846"/>
                  <a:pt x="15432" y="11797"/>
                  <a:pt x="15255" y="11931"/>
                </a:cubicBezTo>
                <a:cubicBezTo>
                  <a:pt x="15205" y="11956"/>
                  <a:pt x="15156" y="11980"/>
                  <a:pt x="15106" y="12005"/>
                </a:cubicBezTo>
                <a:cubicBezTo>
                  <a:pt x="15073" y="12022"/>
                  <a:pt x="15040" y="12038"/>
                  <a:pt x="15007" y="12055"/>
                </a:cubicBezTo>
                <a:cubicBezTo>
                  <a:pt x="15072" y="12048"/>
                  <a:pt x="15494" y="11983"/>
                  <a:pt x="15280" y="12204"/>
                </a:cubicBezTo>
                <a:cubicBezTo>
                  <a:pt x="15117" y="12372"/>
                  <a:pt x="15050" y="12270"/>
                  <a:pt x="15032" y="12154"/>
                </a:cubicBezTo>
              </a:path>
              <a:path w="2456" h="1216">
                <a:moveTo>
                  <a:pt x="15553" y="11807"/>
                </a:moveTo>
                <a:cubicBezTo>
                  <a:pt x="15747" y="11747"/>
                  <a:pt x="15851" y="11713"/>
                  <a:pt x="16049" y="11733"/>
                </a:cubicBezTo>
                <a:cubicBezTo>
                  <a:pt x="16008" y="11901"/>
                  <a:pt x="15920" y="12064"/>
                  <a:pt x="15949" y="12229"/>
                </a:cubicBezTo>
              </a:path>
              <a:path w="2456" h="1216">
                <a:moveTo>
                  <a:pt x="14387" y="12452"/>
                </a:moveTo>
                <a:cubicBezTo>
                  <a:pt x="15010" y="12321"/>
                  <a:pt x="15586" y="12220"/>
                  <a:pt x="16222" y="12229"/>
                </a:cubicBezTo>
                <a:cubicBezTo>
                  <a:pt x="16280" y="12229"/>
                  <a:pt x="16322" y="12229"/>
                  <a:pt x="16272" y="12229"/>
                </a:cubicBezTo>
              </a:path>
              <a:path w="2456" h="1216">
                <a:moveTo>
                  <a:pt x="15081" y="12353"/>
                </a:moveTo>
                <a:cubicBezTo>
                  <a:pt x="15041" y="12524"/>
                  <a:pt x="15002" y="12677"/>
                  <a:pt x="14982" y="12849"/>
                </a:cubicBezTo>
                <a:cubicBezTo>
                  <a:pt x="15203" y="12922"/>
                  <a:pt x="15303" y="12757"/>
                  <a:pt x="15429" y="12576"/>
                </a:cubicBezTo>
                <a:cubicBezTo>
                  <a:pt x="15256" y="12654"/>
                  <a:pt x="15218" y="12739"/>
                  <a:pt x="15230" y="12923"/>
                </a:cubicBezTo>
              </a:path>
              <a:path w="2456" h="1216">
                <a:moveTo>
                  <a:pt x="16495" y="12626"/>
                </a:moveTo>
                <a:cubicBezTo>
                  <a:pt x="16580" y="12605"/>
                  <a:pt x="16670" y="12601"/>
                  <a:pt x="16768" y="12601"/>
                </a:cubicBezTo>
                <a:cubicBezTo>
                  <a:pt x="16793" y="12601"/>
                  <a:pt x="16817" y="12601"/>
                  <a:pt x="16842" y="12601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313320" y="4438800"/>
            <a:ext cx="438480" cy="169560"/>
          </a:xfrm>
          <a:custGeom>
            <a:avLst/>
            <a:gdLst/>
            <a:ahLst/>
            <a:rect l="l" t="t" r="r" b="b"/>
            <a:pathLst>
              <a:path w="1216" h="472">
                <a:moveTo>
                  <a:pt x="17636" y="12378"/>
                </a:moveTo>
                <a:cubicBezTo>
                  <a:pt x="17799" y="12465"/>
                  <a:pt x="18259" y="12727"/>
                  <a:pt x="17760" y="12774"/>
                </a:cubicBezTo>
                <a:cubicBezTo>
                  <a:pt x="17694" y="12766"/>
                  <a:pt x="17628" y="12758"/>
                  <a:pt x="17562" y="12750"/>
                </a:cubicBezTo>
                <a:cubicBezTo>
                  <a:pt x="17623" y="12626"/>
                  <a:pt x="17883" y="12747"/>
                  <a:pt x="18033" y="12750"/>
                </a:cubicBezTo>
                <a:cubicBezTo>
                  <a:pt x="18083" y="12742"/>
                  <a:pt x="18132" y="12733"/>
                  <a:pt x="18182" y="12725"/>
                </a:cubicBezTo>
              </a:path>
              <a:path w="1216" h="472">
                <a:moveTo>
                  <a:pt x="18355" y="12328"/>
                </a:moveTo>
                <a:cubicBezTo>
                  <a:pt x="18227" y="12512"/>
                  <a:pt x="18110" y="12824"/>
                  <a:pt x="18504" y="12799"/>
                </a:cubicBezTo>
                <a:cubicBezTo>
                  <a:pt x="18878" y="12775"/>
                  <a:pt x="18767" y="12396"/>
                  <a:pt x="18504" y="12328"/>
                </a:cubicBezTo>
                <a:cubicBezTo>
                  <a:pt x="18479" y="12328"/>
                  <a:pt x="18455" y="12328"/>
                  <a:pt x="18430" y="12328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99240" y="4313160"/>
            <a:ext cx="544680" cy="322200"/>
          </a:xfrm>
          <a:custGeom>
            <a:avLst/>
            <a:gdLst/>
            <a:ahLst/>
            <a:rect l="l" t="t" r="r" b="b"/>
            <a:pathLst>
              <a:path w="1514" h="894">
                <a:moveTo>
                  <a:pt x="21282" y="12229"/>
                </a:moveTo>
                <a:cubicBezTo>
                  <a:pt x="21233" y="12254"/>
                  <a:pt x="21183" y="12278"/>
                  <a:pt x="21134" y="12303"/>
                </a:cubicBezTo>
                <a:cubicBezTo>
                  <a:pt x="21181" y="12553"/>
                  <a:pt x="21382" y="12616"/>
                  <a:pt x="21555" y="12824"/>
                </a:cubicBezTo>
                <a:cubicBezTo>
                  <a:pt x="21270" y="12903"/>
                  <a:pt x="21128" y="12898"/>
                  <a:pt x="21332" y="12576"/>
                </a:cubicBezTo>
                <a:cubicBezTo>
                  <a:pt x="21457" y="12410"/>
                  <a:pt x="21498" y="12384"/>
                  <a:pt x="21506" y="12254"/>
                </a:cubicBezTo>
              </a:path>
              <a:path w="1514" h="894">
                <a:moveTo>
                  <a:pt x="22076" y="12179"/>
                </a:moveTo>
                <a:cubicBezTo>
                  <a:pt x="21924" y="12372"/>
                  <a:pt x="21885" y="12458"/>
                  <a:pt x="21853" y="12700"/>
                </a:cubicBezTo>
                <a:cubicBezTo>
                  <a:pt x="22086" y="12749"/>
                  <a:pt x="22337" y="12658"/>
                  <a:pt x="22200" y="12353"/>
                </a:cubicBezTo>
                <a:cubicBezTo>
                  <a:pt x="22098" y="12231"/>
                  <a:pt x="22086" y="12201"/>
                  <a:pt x="22002" y="12154"/>
                </a:cubicBezTo>
              </a:path>
              <a:path w="1514" h="894">
                <a:moveTo>
                  <a:pt x="22622" y="11981"/>
                </a:moveTo>
                <a:cubicBezTo>
                  <a:pt x="22502" y="12036"/>
                  <a:pt x="22473" y="12023"/>
                  <a:pt x="22473" y="12154"/>
                </a:cubicBezTo>
                <a:cubicBezTo>
                  <a:pt x="22584" y="12136"/>
                  <a:pt x="22597" y="12156"/>
                  <a:pt x="22597" y="12055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1,59,-6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1,59,-6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1,59,-6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1,59,-6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1,59,-6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ind the value of 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. Remember that all triangles add up to 180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1981080"/>
            <a:ext cx="2133720" cy="160020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95280" y="21337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295280" y="3276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5248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895480" y="32767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1981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952880" y="1981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791320" y="1905120"/>
            <a:ext cx="2590560" cy="160020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867280" y="3124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5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8168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70 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924680" y="3124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895480" y="4419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3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76720" y="4114800"/>
            <a:ext cx="3352680" cy="1905120"/>
          </a:xfrm>
          <a:prstGeom prst="triangle">
            <a:avLst>
              <a:gd name="adj" fmla="val 75995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562720" y="4343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429000" y="57150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40 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867280" y="57150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5 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93920" y="3330720"/>
            <a:ext cx="115920" cy="206280"/>
          </a:xfrm>
          <a:custGeom>
            <a:avLst/>
            <a:gdLst/>
            <a:ahLst/>
            <a:rect l="l" t="t" r="r" b="b"/>
            <a:pathLst>
              <a:path w="323" h="572">
                <a:moveTo>
                  <a:pt x="4093" y="9426"/>
                </a:moveTo>
                <a:cubicBezTo>
                  <a:pt x="4148" y="9426"/>
                  <a:pt x="4135" y="9419"/>
                  <a:pt x="4167" y="9376"/>
                </a:cubicBezTo>
                <a:cubicBezTo>
                  <a:pt x="4090" y="9282"/>
                  <a:pt x="4005" y="9172"/>
                  <a:pt x="3919" y="9327"/>
                </a:cubicBezTo>
                <a:cubicBezTo>
                  <a:pt x="3880" y="9398"/>
                  <a:pt x="3879" y="9654"/>
                  <a:pt x="3994" y="9475"/>
                </a:cubicBezTo>
                <a:cubicBezTo>
                  <a:pt x="4010" y="9434"/>
                  <a:pt x="4027" y="9392"/>
                  <a:pt x="4043" y="9351"/>
                </a:cubicBezTo>
                <a:cubicBezTo>
                  <a:pt x="4051" y="9343"/>
                  <a:pt x="4060" y="9335"/>
                  <a:pt x="4068" y="9327"/>
                </a:cubicBezTo>
                <a:cubicBezTo>
                  <a:pt x="4096" y="9407"/>
                  <a:pt x="4143" y="9589"/>
                  <a:pt x="4167" y="9699"/>
                </a:cubicBezTo>
                <a:cubicBezTo>
                  <a:pt x="4175" y="9740"/>
                  <a:pt x="4184" y="9782"/>
                  <a:pt x="4192" y="9823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562040" y="3251160"/>
            <a:ext cx="5815080" cy="2044800"/>
          </a:xfrm>
          <a:custGeom>
            <a:avLst/>
            <a:gdLst/>
            <a:ahLst/>
            <a:rect l="l" t="t" r="r" b="b"/>
            <a:pathLst>
              <a:path w="16149" h="5681">
                <a:moveTo>
                  <a:pt x="4341" y="9376"/>
                </a:moveTo>
                <a:cubicBezTo>
                  <a:pt x="4363" y="9511"/>
                  <a:pt x="4375" y="9612"/>
                  <a:pt x="4440" y="9723"/>
                </a:cubicBezTo>
                <a:cubicBezTo>
                  <a:pt x="4568" y="9670"/>
                  <a:pt x="4698" y="9473"/>
                  <a:pt x="4539" y="9327"/>
                </a:cubicBezTo>
                <a:cubicBezTo>
                  <a:pt x="4437" y="9301"/>
                  <a:pt x="4402" y="9294"/>
                  <a:pt x="4341" y="9351"/>
                </a:cubicBezTo>
              </a:path>
              <a:path w="16149" h="5681">
                <a:moveTo>
                  <a:pt x="4663" y="9103"/>
                </a:moveTo>
                <a:cubicBezTo>
                  <a:pt x="4671" y="9170"/>
                  <a:pt x="4719" y="9257"/>
                  <a:pt x="4738" y="9128"/>
                </a:cubicBezTo>
                <a:cubicBezTo>
                  <a:pt x="4738" y="9038"/>
                  <a:pt x="4745" y="8999"/>
                  <a:pt x="4688" y="9079"/>
                </a:cubicBezTo>
              </a:path>
              <a:path w="16149" h="5681">
                <a:moveTo>
                  <a:pt x="20191" y="14684"/>
                </a:moveTo>
                <a:cubicBezTo>
                  <a:pt x="20341" y="14684"/>
                  <a:pt x="20391" y="14684"/>
                  <a:pt x="20489" y="14709"/>
                </a:cubicBezTo>
              </a:path>
              <a:path w="16149" h="5681">
                <a:moveTo>
                  <a:pt x="20489" y="14709"/>
                </a:moveTo>
                <a:lnTo>
                  <a:pt x="20489" y="14709"/>
                </a:ln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59120" y="1812960"/>
            <a:ext cx="696960" cy="1017720"/>
          </a:xfrm>
          <a:custGeom>
            <a:avLst/>
            <a:gdLst/>
            <a:ahLst/>
            <a:rect l="l" t="t" r="r" b="b"/>
            <a:pathLst>
              <a:path w="1936" h="2829">
                <a:moveTo>
                  <a:pt x="11063" y="5085"/>
                </a:moveTo>
                <a:cubicBezTo>
                  <a:pt x="10992" y="5109"/>
                  <a:pt x="10874" y="5108"/>
                  <a:pt x="10815" y="5135"/>
                </a:cubicBezTo>
                <a:cubicBezTo>
                  <a:pt x="10679" y="5199"/>
                  <a:pt x="10678" y="5376"/>
                  <a:pt x="10666" y="5507"/>
                </a:cubicBezTo>
                <a:cubicBezTo>
                  <a:pt x="10824" y="5449"/>
                  <a:pt x="10947" y="5441"/>
                  <a:pt x="11112" y="5457"/>
                </a:cubicBezTo>
                <a:cubicBezTo>
                  <a:pt x="11101" y="5697"/>
                  <a:pt x="10995" y="5903"/>
                  <a:pt x="10691" y="5879"/>
                </a:cubicBezTo>
                <a:cubicBezTo>
                  <a:pt x="10622" y="5810"/>
                  <a:pt x="10610" y="5767"/>
                  <a:pt x="10666" y="5680"/>
                </a:cubicBezTo>
              </a:path>
              <a:path w="1936" h="2829">
                <a:moveTo>
                  <a:pt x="11559" y="5035"/>
                </a:moveTo>
                <a:cubicBezTo>
                  <a:pt x="11439" y="5290"/>
                  <a:pt x="11443" y="5388"/>
                  <a:pt x="11559" y="5631"/>
                </a:cubicBezTo>
                <a:cubicBezTo>
                  <a:pt x="11773" y="5595"/>
                  <a:pt x="12054" y="5460"/>
                  <a:pt x="11931" y="5159"/>
                </a:cubicBezTo>
                <a:cubicBezTo>
                  <a:pt x="11807" y="5035"/>
                  <a:pt x="11766" y="4994"/>
                  <a:pt x="11633" y="5035"/>
                </a:cubicBezTo>
              </a:path>
              <a:path w="1936" h="2829">
                <a:moveTo>
                  <a:pt x="10492" y="6226"/>
                </a:moveTo>
                <a:cubicBezTo>
                  <a:pt x="10499" y="6421"/>
                  <a:pt x="10615" y="6724"/>
                  <a:pt x="10443" y="6648"/>
                </a:cubicBezTo>
              </a:path>
              <a:path w="1936" h="2829">
                <a:moveTo>
                  <a:pt x="11137" y="6375"/>
                </a:moveTo>
                <a:cubicBezTo>
                  <a:pt x="11182" y="6269"/>
                  <a:pt x="11147" y="6116"/>
                  <a:pt x="10988" y="6127"/>
                </a:cubicBezTo>
                <a:cubicBezTo>
                  <a:pt x="10810" y="6140"/>
                  <a:pt x="10607" y="6485"/>
                  <a:pt x="10889" y="6499"/>
                </a:cubicBezTo>
                <a:cubicBezTo>
                  <a:pt x="11044" y="6507"/>
                  <a:pt x="11074" y="6354"/>
                  <a:pt x="11112" y="6251"/>
                </a:cubicBezTo>
                <a:cubicBezTo>
                  <a:pt x="11104" y="6234"/>
                  <a:pt x="11096" y="6218"/>
                  <a:pt x="11088" y="6201"/>
                </a:cubicBezTo>
                <a:cubicBezTo>
                  <a:pt x="11123" y="6347"/>
                  <a:pt x="11173" y="6511"/>
                  <a:pt x="11187" y="6672"/>
                </a:cubicBezTo>
                <a:cubicBezTo>
                  <a:pt x="11187" y="6713"/>
                  <a:pt x="11187" y="6755"/>
                  <a:pt x="11187" y="6796"/>
                </a:cubicBezTo>
              </a:path>
              <a:path w="1936" h="2829">
                <a:moveTo>
                  <a:pt x="11534" y="6152"/>
                </a:moveTo>
                <a:cubicBezTo>
                  <a:pt x="11492" y="6364"/>
                  <a:pt x="11471" y="6520"/>
                  <a:pt x="11534" y="6722"/>
                </a:cubicBezTo>
                <a:cubicBezTo>
                  <a:pt x="11717" y="6676"/>
                  <a:pt x="11970" y="6505"/>
                  <a:pt x="11832" y="6251"/>
                </a:cubicBezTo>
                <a:cubicBezTo>
                  <a:pt x="11770" y="6137"/>
                  <a:pt x="11648" y="6130"/>
                  <a:pt x="11559" y="6152"/>
                </a:cubicBezTo>
              </a:path>
              <a:path w="1936" h="2829">
                <a:moveTo>
                  <a:pt x="10468" y="7020"/>
                </a:moveTo>
                <a:cubicBezTo>
                  <a:pt x="10630" y="6949"/>
                  <a:pt x="11020" y="7019"/>
                  <a:pt x="11187" y="7020"/>
                </a:cubicBezTo>
                <a:cubicBezTo>
                  <a:pt x="11584" y="7023"/>
                  <a:pt x="11981" y="7020"/>
                  <a:pt x="12378" y="7020"/>
                </a:cubicBezTo>
              </a:path>
              <a:path w="1936" h="2829">
                <a:moveTo>
                  <a:pt x="10691" y="7193"/>
                </a:moveTo>
                <a:cubicBezTo>
                  <a:pt x="10723" y="7354"/>
                  <a:pt x="10732" y="7544"/>
                  <a:pt x="10716" y="7714"/>
                </a:cubicBezTo>
                <a:cubicBezTo>
                  <a:pt x="10708" y="7747"/>
                  <a:pt x="10699" y="7780"/>
                  <a:pt x="10691" y="7813"/>
                </a:cubicBezTo>
              </a:path>
              <a:path w="1936" h="2829">
                <a:moveTo>
                  <a:pt x="11063" y="7317"/>
                </a:moveTo>
                <a:cubicBezTo>
                  <a:pt x="11044" y="7361"/>
                  <a:pt x="10950" y="7501"/>
                  <a:pt x="11063" y="7516"/>
                </a:cubicBezTo>
                <a:cubicBezTo>
                  <a:pt x="11176" y="7531"/>
                  <a:pt x="11257" y="7485"/>
                  <a:pt x="11361" y="7466"/>
                </a:cubicBezTo>
              </a:path>
              <a:path w="1936" h="2829">
                <a:moveTo>
                  <a:pt x="11385" y="7218"/>
                </a:moveTo>
                <a:cubicBezTo>
                  <a:pt x="11397" y="7424"/>
                  <a:pt x="11412" y="7608"/>
                  <a:pt x="11385" y="7813"/>
                </a:cubicBezTo>
              </a:path>
              <a:path w="1936" h="2829">
                <a:moveTo>
                  <a:pt x="11708" y="7317"/>
                </a:moveTo>
                <a:cubicBezTo>
                  <a:pt x="11612" y="7412"/>
                  <a:pt x="11578" y="7619"/>
                  <a:pt x="11633" y="7764"/>
                </a:cubicBezTo>
                <a:cubicBezTo>
                  <a:pt x="11658" y="7797"/>
                  <a:pt x="11683" y="7830"/>
                  <a:pt x="11708" y="7863"/>
                </a:cubicBezTo>
                <a:cubicBezTo>
                  <a:pt x="11906" y="7797"/>
                  <a:pt x="12186" y="7641"/>
                  <a:pt x="12030" y="7367"/>
                </a:cubicBezTo>
                <a:cubicBezTo>
                  <a:pt x="11948" y="7222"/>
                  <a:pt x="11747" y="7318"/>
                  <a:pt x="11633" y="7342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875200" y="2133720"/>
            <a:ext cx="3098880" cy="3760560"/>
          </a:xfrm>
          <a:custGeom>
            <a:avLst/>
            <a:gdLst/>
            <a:ahLst/>
            <a:rect l="l" t="t" r="r" b="b"/>
            <a:pathLst>
              <a:path w="8609" h="10444">
                <a:moveTo>
                  <a:pt x="16371" y="6747"/>
                </a:moveTo>
                <a:cubicBezTo>
                  <a:pt x="16322" y="6906"/>
                  <a:pt x="16274" y="6964"/>
                  <a:pt x="16470" y="6995"/>
                </a:cubicBezTo>
                <a:cubicBezTo>
                  <a:pt x="16554" y="6995"/>
                  <a:pt x="16588" y="6993"/>
                  <a:pt x="16644" y="6970"/>
                </a:cubicBezTo>
              </a:path>
              <a:path w="8609" h="10444">
                <a:moveTo>
                  <a:pt x="24681" y="6052"/>
                </a:moveTo>
                <a:cubicBezTo>
                  <a:pt x="24762" y="6006"/>
                  <a:pt x="24843" y="5967"/>
                  <a:pt x="24929" y="5928"/>
                </a:cubicBezTo>
              </a:path>
              <a:path w="8609" h="10444">
                <a:moveTo>
                  <a:pt x="23986" y="8880"/>
                </a:moveTo>
                <a:cubicBezTo>
                  <a:pt x="24093" y="8837"/>
                  <a:pt x="24117" y="8826"/>
                  <a:pt x="24185" y="8806"/>
                </a:cubicBezTo>
              </a:path>
              <a:path w="8609" h="10444">
                <a:moveTo>
                  <a:pt x="19025" y="13841"/>
                </a:moveTo>
                <a:cubicBezTo>
                  <a:pt x="18975" y="13965"/>
                  <a:pt x="18928" y="14090"/>
                  <a:pt x="18876" y="14213"/>
                </a:cubicBezTo>
              </a:path>
              <a:path w="8609" h="10444">
                <a:moveTo>
                  <a:pt x="19869" y="13841"/>
                </a:moveTo>
                <a:cubicBezTo>
                  <a:pt x="20019" y="13816"/>
                  <a:pt x="20071" y="13807"/>
                  <a:pt x="20166" y="13767"/>
                </a:cubicBezTo>
              </a:path>
              <a:path w="8609" h="10444">
                <a:moveTo>
                  <a:pt x="20166" y="13767"/>
                </a:moveTo>
                <a:lnTo>
                  <a:pt x="20166" y="13767"/>
                </a:lnTo>
              </a:path>
              <a:path w="8609" h="10444">
                <a:moveTo>
                  <a:pt x="18479" y="14883"/>
                </a:moveTo>
                <a:cubicBezTo>
                  <a:pt x="18501" y="15016"/>
                  <a:pt x="18514" y="15050"/>
                  <a:pt x="18479" y="15131"/>
                </a:cubicBezTo>
              </a:path>
              <a:path w="8609" h="10444">
                <a:moveTo>
                  <a:pt x="18430" y="14957"/>
                </a:moveTo>
                <a:cubicBezTo>
                  <a:pt x="18679" y="14929"/>
                  <a:pt x="18779" y="14917"/>
                  <a:pt x="18951" y="14883"/>
                </a:cubicBezTo>
              </a:path>
              <a:path w="8609" h="10444">
                <a:moveTo>
                  <a:pt x="18951" y="14883"/>
                </a:moveTo>
                <a:lnTo>
                  <a:pt x="18951" y="14883"/>
                </a:lnTo>
              </a:path>
              <a:path w="8609" h="10444">
                <a:moveTo>
                  <a:pt x="19075" y="16024"/>
                </a:moveTo>
                <a:cubicBezTo>
                  <a:pt x="19035" y="16140"/>
                  <a:pt x="18992" y="16255"/>
                  <a:pt x="18951" y="16371"/>
                </a:cubicBezTo>
              </a:path>
              <a:path w="8609" h="10444">
                <a:moveTo>
                  <a:pt x="20067" y="15900"/>
                </a:moveTo>
                <a:cubicBezTo>
                  <a:pt x="20000" y="16061"/>
                  <a:pt x="19956" y="16099"/>
                  <a:pt x="20017" y="16247"/>
                </a:cubicBezTo>
                <a:cubicBezTo>
                  <a:pt x="20143" y="16199"/>
                  <a:pt x="20510" y="16024"/>
                  <a:pt x="20290" y="15825"/>
                </a:cubicBezTo>
                <a:cubicBezTo>
                  <a:pt x="20240" y="15809"/>
                  <a:pt x="20191" y="15792"/>
                  <a:pt x="20141" y="15776"/>
                </a:cubicBezTo>
              </a:path>
              <a:path w="8609" h="10444">
                <a:moveTo>
                  <a:pt x="17363" y="12080"/>
                </a:moveTo>
                <a:cubicBezTo>
                  <a:pt x="17456" y="12036"/>
                  <a:pt x="17536" y="11999"/>
                  <a:pt x="17636" y="11981"/>
                </a:cubicBezTo>
              </a:path>
              <a:path w="8609" h="10444">
                <a:moveTo>
                  <a:pt x="17909" y="11658"/>
                </a:moveTo>
                <a:cubicBezTo>
                  <a:pt x="17836" y="11731"/>
                  <a:pt x="17812" y="11754"/>
                  <a:pt x="17835" y="11832"/>
                </a:cubicBezTo>
                <a:cubicBezTo>
                  <a:pt x="17963" y="11858"/>
                  <a:pt x="18004" y="11839"/>
                  <a:pt x="18033" y="11708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215200" y="3170160"/>
            <a:ext cx="473040" cy="223920"/>
          </a:xfrm>
          <a:custGeom>
            <a:avLst/>
            <a:gdLst/>
            <a:ahLst/>
            <a:rect l="l" t="t" r="r" b="b"/>
            <a:pathLst>
              <a:path w="1316" h="621">
                <a:moveTo>
                  <a:pt x="22820" y="9203"/>
                </a:moveTo>
                <a:cubicBezTo>
                  <a:pt x="22929" y="9185"/>
                  <a:pt x="23056" y="9122"/>
                  <a:pt x="23168" y="9128"/>
                </a:cubicBezTo>
                <a:cubicBezTo>
                  <a:pt x="23168" y="9136"/>
                  <a:pt x="23168" y="9145"/>
                  <a:pt x="23168" y="9153"/>
                </a:cubicBezTo>
              </a:path>
              <a:path w="1316" h="621">
                <a:moveTo>
                  <a:pt x="22920" y="9401"/>
                </a:moveTo>
                <a:cubicBezTo>
                  <a:pt x="23045" y="9371"/>
                  <a:pt x="23168" y="9336"/>
                  <a:pt x="23292" y="9302"/>
                </a:cubicBezTo>
              </a:path>
              <a:path w="1316" h="621">
                <a:moveTo>
                  <a:pt x="23515" y="8930"/>
                </a:moveTo>
                <a:cubicBezTo>
                  <a:pt x="23487" y="9005"/>
                  <a:pt x="23472" y="9073"/>
                  <a:pt x="23465" y="9153"/>
                </a:cubicBezTo>
                <a:cubicBezTo>
                  <a:pt x="23634" y="9217"/>
                  <a:pt x="23711" y="9180"/>
                  <a:pt x="23837" y="9079"/>
                </a:cubicBezTo>
              </a:path>
              <a:path w="1316" h="621">
                <a:moveTo>
                  <a:pt x="23812" y="8806"/>
                </a:moveTo>
                <a:cubicBezTo>
                  <a:pt x="23775" y="8992"/>
                  <a:pt x="23756" y="9190"/>
                  <a:pt x="23713" y="9376"/>
                </a:cubicBezTo>
                <a:cubicBezTo>
                  <a:pt x="23685" y="9433"/>
                  <a:pt x="23679" y="9442"/>
                  <a:pt x="23713" y="9351"/>
                </a:cubicBezTo>
              </a:path>
              <a:path w="1316" h="621">
                <a:moveTo>
                  <a:pt x="24011" y="8954"/>
                </a:moveTo>
                <a:cubicBezTo>
                  <a:pt x="23971" y="9014"/>
                  <a:pt x="23967" y="9025"/>
                  <a:pt x="23937" y="9054"/>
                </a:cubicBezTo>
                <a:cubicBezTo>
                  <a:pt x="23996" y="9088"/>
                  <a:pt x="24154" y="9112"/>
                  <a:pt x="24135" y="9227"/>
                </a:cubicBezTo>
                <a:cubicBezTo>
                  <a:pt x="24092" y="9488"/>
                  <a:pt x="23901" y="9340"/>
                  <a:pt x="23837" y="9227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732880" y="3036960"/>
            <a:ext cx="63360" cy="79200"/>
          </a:xfrm>
          <a:custGeom>
            <a:avLst/>
            <a:gdLst/>
            <a:ahLst/>
            <a:rect l="l" t="t" r="r" b="b"/>
            <a:pathLst>
              <a:path w="175" h="224">
                <a:moveTo>
                  <a:pt x="24309" y="8434"/>
                </a:moveTo>
                <a:cubicBezTo>
                  <a:pt x="24293" y="8510"/>
                  <a:pt x="24264" y="8562"/>
                  <a:pt x="24284" y="8632"/>
                </a:cubicBezTo>
                <a:cubicBezTo>
                  <a:pt x="24313" y="8635"/>
                  <a:pt x="24540" y="8567"/>
                  <a:pt x="24433" y="8483"/>
                </a:cubicBezTo>
                <a:cubicBezTo>
                  <a:pt x="24408" y="8483"/>
                  <a:pt x="24383" y="8483"/>
                  <a:pt x="24358" y="8483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892840" y="1866960"/>
            <a:ext cx="2627280" cy="2820960"/>
          </a:xfrm>
          <a:custGeom>
            <a:avLst/>
            <a:gdLst/>
            <a:ahLst/>
            <a:rect l="l" t="t" r="r" b="b"/>
            <a:pathLst>
              <a:path w="7294" h="7839">
                <a:moveTo>
                  <a:pt x="22051" y="6028"/>
                </a:moveTo>
                <a:cubicBezTo>
                  <a:pt x="22117" y="6003"/>
                  <a:pt x="22184" y="5978"/>
                  <a:pt x="22250" y="5953"/>
                </a:cubicBezTo>
              </a:path>
              <a:path w="7294" h="7839">
                <a:moveTo>
                  <a:pt x="22250" y="5953"/>
                </a:moveTo>
                <a:lnTo>
                  <a:pt x="22250" y="5953"/>
                </a:lnTo>
              </a:path>
              <a:path w="7294" h="7839">
                <a:moveTo>
                  <a:pt x="23093" y="5259"/>
                </a:moveTo>
                <a:cubicBezTo>
                  <a:pt x="23282" y="5227"/>
                  <a:pt x="23473" y="5215"/>
                  <a:pt x="23664" y="5184"/>
                </a:cubicBezTo>
              </a:path>
              <a:path w="7294" h="7839">
                <a:moveTo>
                  <a:pt x="19695" y="12005"/>
                </a:moveTo>
                <a:cubicBezTo>
                  <a:pt x="19818" y="11981"/>
                  <a:pt x="19859" y="11973"/>
                  <a:pt x="19943" y="11981"/>
                </a:cubicBezTo>
              </a:path>
              <a:path w="7294" h="7839">
                <a:moveTo>
                  <a:pt x="18554" y="12725"/>
                </a:moveTo>
                <a:cubicBezTo>
                  <a:pt x="18575" y="12864"/>
                  <a:pt x="18592" y="12907"/>
                  <a:pt x="18529" y="13022"/>
                </a:cubicBezTo>
              </a:path>
              <a:path w="7294" h="7839">
                <a:moveTo>
                  <a:pt x="18479" y="12898"/>
                </a:moveTo>
                <a:cubicBezTo>
                  <a:pt x="18694" y="12872"/>
                  <a:pt x="18777" y="12862"/>
                  <a:pt x="18926" y="12849"/>
                </a:cubicBezTo>
              </a:path>
              <a:path w="7294" h="7839">
                <a:moveTo>
                  <a:pt x="19174" y="12849"/>
                </a:moveTo>
                <a:cubicBezTo>
                  <a:pt x="19136" y="13039"/>
                  <a:pt x="19131" y="13040"/>
                  <a:pt x="19323" y="12973"/>
                </a:cubicBezTo>
              </a:path>
              <a:path w="7294" h="7839">
                <a:moveTo>
                  <a:pt x="16371" y="12650"/>
                </a:moveTo>
                <a:cubicBezTo>
                  <a:pt x="16548" y="12622"/>
                  <a:pt x="16679" y="12595"/>
                  <a:pt x="16842" y="12526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732120" y="1795320"/>
            <a:ext cx="4287960" cy="554040"/>
          </a:xfrm>
          <a:custGeom>
            <a:avLst/>
            <a:gdLst/>
            <a:ahLst/>
            <a:rect l="l" t="t" r="r" b="b"/>
            <a:pathLst>
              <a:path w="11908" h="1539">
                <a:moveTo>
                  <a:pt x="10368" y="6524"/>
                </a:moveTo>
                <a:cubicBezTo>
                  <a:pt x="10496" y="6496"/>
                  <a:pt x="10610" y="6480"/>
                  <a:pt x="10740" y="6474"/>
                </a:cubicBezTo>
              </a:path>
              <a:path w="11908" h="1539">
                <a:moveTo>
                  <a:pt x="21779" y="5035"/>
                </a:moveTo>
                <a:cubicBezTo>
                  <a:pt x="21934" y="4991"/>
                  <a:pt x="21973" y="4975"/>
                  <a:pt x="22076" y="4986"/>
                </a:cubicBezTo>
              </a:path>
              <a:path w="11908" h="1539">
                <a:moveTo>
                  <a:pt x="20786" y="5680"/>
                </a:moveTo>
                <a:cubicBezTo>
                  <a:pt x="21231" y="5646"/>
                  <a:pt x="21675" y="5531"/>
                  <a:pt x="22126" y="5531"/>
                </a:cubicBezTo>
                <a:cubicBezTo>
                  <a:pt x="22176" y="5539"/>
                  <a:pt x="22225" y="5548"/>
                  <a:pt x="22275" y="5556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500800" y="2428920"/>
            <a:ext cx="758880" cy="608040"/>
          </a:xfrm>
          <a:custGeom>
            <a:avLst/>
            <a:gdLst/>
            <a:ahLst/>
            <a:rect l="l" t="t" r="r" b="b"/>
            <a:pathLst>
              <a:path w="2109" h="1688">
                <a:moveTo>
                  <a:pt x="16644" y="6747"/>
                </a:moveTo>
                <a:cubicBezTo>
                  <a:pt x="16594" y="6874"/>
                  <a:pt x="16477" y="7127"/>
                  <a:pt x="16495" y="7218"/>
                </a:cubicBezTo>
              </a:path>
              <a:path w="2109" h="1688">
                <a:moveTo>
                  <a:pt x="17016" y="6796"/>
                </a:moveTo>
                <a:cubicBezTo>
                  <a:pt x="16858" y="6955"/>
                  <a:pt x="16798" y="7097"/>
                  <a:pt x="16768" y="7317"/>
                </a:cubicBezTo>
                <a:cubicBezTo>
                  <a:pt x="16925" y="7349"/>
                  <a:pt x="17288" y="7337"/>
                  <a:pt x="17214" y="7045"/>
                </a:cubicBezTo>
                <a:cubicBezTo>
                  <a:pt x="17122" y="6929"/>
                  <a:pt x="17099" y="6890"/>
                  <a:pt x="16991" y="6896"/>
                </a:cubicBezTo>
              </a:path>
              <a:path w="2109" h="1688">
                <a:moveTo>
                  <a:pt x="15280" y="7317"/>
                </a:moveTo>
                <a:cubicBezTo>
                  <a:pt x="15712" y="7361"/>
                  <a:pt x="16151" y="7501"/>
                  <a:pt x="16570" y="7615"/>
                </a:cubicBezTo>
                <a:cubicBezTo>
                  <a:pt x="16791" y="7675"/>
                  <a:pt x="17163" y="7781"/>
                  <a:pt x="17363" y="7838"/>
                </a:cubicBezTo>
                <a:cubicBezTo>
                  <a:pt x="17371" y="7838"/>
                  <a:pt x="17380" y="7838"/>
                  <a:pt x="17388" y="7838"/>
                </a:cubicBezTo>
              </a:path>
              <a:path w="2109" h="1688">
                <a:moveTo>
                  <a:pt x="16049" y="7714"/>
                </a:moveTo>
                <a:cubicBezTo>
                  <a:pt x="15977" y="7808"/>
                  <a:pt x="15905" y="7900"/>
                  <a:pt x="15825" y="7987"/>
                </a:cubicBezTo>
                <a:cubicBezTo>
                  <a:pt x="15938" y="8036"/>
                  <a:pt x="16091" y="8012"/>
                  <a:pt x="16222" y="8012"/>
                </a:cubicBezTo>
                <a:cubicBezTo>
                  <a:pt x="16230" y="8012"/>
                  <a:pt x="16239" y="8012"/>
                  <a:pt x="16247" y="8012"/>
                </a:cubicBezTo>
              </a:path>
              <a:path w="2109" h="1688">
                <a:moveTo>
                  <a:pt x="16222" y="7739"/>
                </a:moveTo>
                <a:cubicBezTo>
                  <a:pt x="16168" y="7942"/>
                  <a:pt x="15818" y="8378"/>
                  <a:pt x="16024" y="8334"/>
                </a:cubicBezTo>
                <a:cubicBezTo>
                  <a:pt x="16057" y="8309"/>
                  <a:pt x="16090" y="8285"/>
                  <a:pt x="16123" y="8260"/>
                </a:cubicBezTo>
              </a:path>
              <a:path w="2109" h="1688">
                <a:moveTo>
                  <a:pt x="16520" y="7938"/>
                </a:moveTo>
                <a:cubicBezTo>
                  <a:pt x="16375" y="8131"/>
                  <a:pt x="16329" y="8228"/>
                  <a:pt x="16446" y="8434"/>
                </a:cubicBezTo>
                <a:cubicBezTo>
                  <a:pt x="16562" y="8380"/>
                  <a:pt x="16986" y="8164"/>
                  <a:pt x="16694" y="7987"/>
                </a:cubicBezTo>
                <a:cubicBezTo>
                  <a:pt x="16636" y="7979"/>
                  <a:pt x="16578" y="7970"/>
                  <a:pt x="16520" y="7962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867280" y="4330800"/>
            <a:ext cx="1625760" cy="1544400"/>
          </a:xfrm>
          <a:custGeom>
            <a:avLst/>
            <a:gdLst/>
            <a:ahLst/>
            <a:rect l="l" t="t" r="r" b="b"/>
            <a:pathLst>
              <a:path w="4515" h="4292">
                <a:moveTo>
                  <a:pt x="19174" y="12055"/>
                </a:moveTo>
                <a:cubicBezTo>
                  <a:pt x="19268" y="11992"/>
                  <a:pt x="19111" y="12196"/>
                  <a:pt x="19075" y="12303"/>
                </a:cubicBezTo>
                <a:cubicBezTo>
                  <a:pt x="18992" y="12552"/>
                  <a:pt x="19194" y="12612"/>
                  <a:pt x="19372" y="12452"/>
                </a:cubicBezTo>
                <a:cubicBezTo>
                  <a:pt x="19397" y="12411"/>
                  <a:pt x="19422" y="12369"/>
                  <a:pt x="19447" y="12328"/>
                </a:cubicBezTo>
                <a:cubicBezTo>
                  <a:pt x="19447" y="12311"/>
                  <a:pt x="19447" y="12295"/>
                  <a:pt x="19447" y="12278"/>
                </a:cubicBezTo>
                <a:cubicBezTo>
                  <a:pt x="19381" y="12305"/>
                  <a:pt x="19194" y="12358"/>
                  <a:pt x="19248" y="12477"/>
                </a:cubicBezTo>
                <a:cubicBezTo>
                  <a:pt x="19267" y="12518"/>
                  <a:pt x="19298" y="12564"/>
                  <a:pt x="19298" y="12526"/>
                </a:cubicBezTo>
              </a:path>
              <a:path w="4515" h="4292">
                <a:moveTo>
                  <a:pt x="19546" y="12080"/>
                </a:moveTo>
                <a:cubicBezTo>
                  <a:pt x="19473" y="12226"/>
                  <a:pt x="19651" y="12234"/>
                  <a:pt x="19769" y="12278"/>
                </a:cubicBezTo>
                <a:cubicBezTo>
                  <a:pt x="19925" y="12336"/>
                  <a:pt x="19801" y="12365"/>
                  <a:pt x="19720" y="12402"/>
                </a:cubicBezTo>
              </a:path>
              <a:path w="4515" h="4292">
                <a:moveTo>
                  <a:pt x="19348" y="12849"/>
                </a:moveTo>
                <a:cubicBezTo>
                  <a:pt x="19317" y="13057"/>
                  <a:pt x="19171" y="13260"/>
                  <a:pt x="19397" y="13146"/>
                </a:cubicBezTo>
              </a:path>
              <a:path w="4515" h="4292">
                <a:moveTo>
                  <a:pt x="19695" y="12849"/>
                </a:moveTo>
                <a:cubicBezTo>
                  <a:pt x="19660" y="12960"/>
                  <a:pt x="19529" y="13355"/>
                  <a:pt x="19819" y="13246"/>
                </a:cubicBezTo>
                <a:cubicBezTo>
                  <a:pt x="19934" y="13153"/>
                  <a:pt x="19974" y="13130"/>
                  <a:pt x="19968" y="13022"/>
                </a:cubicBezTo>
                <a:cubicBezTo>
                  <a:pt x="19818" y="12975"/>
                  <a:pt x="19730" y="12976"/>
                  <a:pt x="19571" y="12998"/>
                </a:cubicBezTo>
              </a:path>
              <a:path w="4515" h="4292">
                <a:moveTo>
                  <a:pt x="18604" y="13568"/>
                </a:moveTo>
                <a:cubicBezTo>
                  <a:pt x="19083" y="13510"/>
                  <a:pt x="19559" y="13478"/>
                  <a:pt x="20042" y="13469"/>
                </a:cubicBezTo>
                <a:cubicBezTo>
                  <a:pt x="20126" y="13469"/>
                  <a:pt x="20109" y="13475"/>
                  <a:pt x="19943" y="13494"/>
                </a:cubicBezTo>
              </a:path>
              <a:path w="4515" h="4292">
                <a:moveTo>
                  <a:pt x="19372" y="13791"/>
                </a:moveTo>
                <a:cubicBezTo>
                  <a:pt x="19330" y="13886"/>
                  <a:pt x="19168" y="14203"/>
                  <a:pt x="19422" y="14139"/>
                </a:cubicBezTo>
                <a:cubicBezTo>
                  <a:pt x="19710" y="14066"/>
                  <a:pt x="19615" y="13944"/>
                  <a:pt x="19422" y="13891"/>
                </a:cubicBezTo>
              </a:path>
              <a:path w="4515" h="4292">
                <a:moveTo>
                  <a:pt x="19869" y="13866"/>
                </a:moveTo>
                <a:cubicBezTo>
                  <a:pt x="19894" y="14016"/>
                  <a:pt x="19979" y="14060"/>
                  <a:pt x="20092" y="14163"/>
                </a:cubicBezTo>
                <a:cubicBezTo>
                  <a:pt x="20035" y="14220"/>
                  <a:pt x="20009" y="14236"/>
                  <a:pt x="19943" y="14213"/>
                </a:cubicBezTo>
              </a:path>
              <a:path w="4515" h="4292">
                <a:moveTo>
                  <a:pt x="19348" y="14684"/>
                </a:moveTo>
                <a:cubicBezTo>
                  <a:pt x="19456" y="14675"/>
                  <a:pt x="19561" y="14665"/>
                  <a:pt x="19670" y="14660"/>
                </a:cubicBezTo>
                <a:cubicBezTo>
                  <a:pt x="19661" y="14749"/>
                  <a:pt x="19563" y="15054"/>
                  <a:pt x="19596" y="15131"/>
                </a:cubicBezTo>
                <a:cubicBezTo>
                  <a:pt x="19612" y="15123"/>
                  <a:pt x="19629" y="15114"/>
                  <a:pt x="19645" y="15106"/>
                </a:cubicBezTo>
              </a:path>
              <a:path w="4515" h="4292">
                <a:moveTo>
                  <a:pt x="20017" y="14734"/>
                </a:moveTo>
                <a:cubicBezTo>
                  <a:pt x="19912" y="14862"/>
                  <a:pt x="20134" y="14936"/>
                  <a:pt x="20216" y="15056"/>
                </a:cubicBezTo>
                <a:cubicBezTo>
                  <a:pt x="20342" y="15240"/>
                  <a:pt x="20070" y="15082"/>
                  <a:pt x="20067" y="15081"/>
                </a:cubicBezTo>
              </a:path>
              <a:path w="4515" h="4292">
                <a:moveTo>
                  <a:pt x="18355" y="15577"/>
                </a:moveTo>
                <a:cubicBezTo>
                  <a:pt x="19108" y="15523"/>
                  <a:pt x="19857" y="15507"/>
                  <a:pt x="20613" y="15553"/>
                </a:cubicBezTo>
                <a:cubicBezTo>
                  <a:pt x="20679" y="15561"/>
                  <a:pt x="20745" y="15569"/>
                  <a:pt x="20811" y="15577"/>
                </a:cubicBezTo>
              </a:path>
              <a:path w="4515" h="4292">
                <a:moveTo>
                  <a:pt x="19496" y="15949"/>
                </a:moveTo>
                <a:cubicBezTo>
                  <a:pt x="19295" y="16151"/>
                  <a:pt x="19410" y="16139"/>
                  <a:pt x="19621" y="16297"/>
                </a:cubicBezTo>
                <a:cubicBezTo>
                  <a:pt x="19654" y="16330"/>
                  <a:pt x="19649" y="16338"/>
                  <a:pt x="19571" y="16321"/>
                </a:cubicBezTo>
                <a:cubicBezTo>
                  <a:pt x="19361" y="16193"/>
                  <a:pt x="19491" y="15999"/>
                  <a:pt x="19720" y="15900"/>
                </a:cubicBezTo>
                <a:cubicBezTo>
                  <a:pt x="19778" y="15892"/>
                  <a:pt x="19835" y="15883"/>
                  <a:pt x="19893" y="15875"/>
                </a:cubicBezTo>
              </a:path>
              <a:path w="4515" h="4292">
                <a:moveTo>
                  <a:pt x="16321" y="12526"/>
                </a:moveTo>
                <a:cubicBezTo>
                  <a:pt x="16284" y="12487"/>
                  <a:pt x="16584" y="12443"/>
                  <a:pt x="16644" y="12427"/>
                </a:cubicBezTo>
                <a:cubicBezTo>
                  <a:pt x="16718" y="12402"/>
                  <a:pt x="16743" y="12394"/>
                  <a:pt x="16694" y="12477"/>
                </a:cubicBezTo>
              </a:path>
              <a:path w="4515" h="4292">
                <a:moveTo>
                  <a:pt x="16867" y="12204"/>
                </a:moveTo>
                <a:cubicBezTo>
                  <a:pt x="16964" y="12198"/>
                  <a:pt x="17048" y="12185"/>
                  <a:pt x="17140" y="12154"/>
                </a:cubicBezTo>
                <a:cubicBezTo>
                  <a:pt x="17217" y="12307"/>
                  <a:pt x="17165" y="12436"/>
                  <a:pt x="17140" y="12601"/>
                </a:cubicBezTo>
                <a:cubicBezTo>
                  <a:pt x="17140" y="12676"/>
                  <a:pt x="17175" y="12649"/>
                  <a:pt x="17264" y="12502"/>
                </a:cubicBezTo>
              </a:path>
              <a:path w="4515" h="4292">
                <a:moveTo>
                  <a:pt x="17438" y="12080"/>
                </a:moveTo>
                <a:cubicBezTo>
                  <a:pt x="17401" y="12153"/>
                  <a:pt x="17384" y="12158"/>
                  <a:pt x="17388" y="12204"/>
                </a:cubicBezTo>
                <a:cubicBezTo>
                  <a:pt x="17490" y="12277"/>
                  <a:pt x="17650" y="12274"/>
                  <a:pt x="17587" y="12427"/>
                </a:cubicBezTo>
                <a:cubicBezTo>
                  <a:pt x="17514" y="12603"/>
                  <a:pt x="17450" y="12536"/>
                  <a:pt x="17338" y="12477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54800" y="1973160"/>
            <a:ext cx="749160" cy="608040"/>
          </a:xfrm>
          <a:custGeom>
            <a:avLst/>
            <a:gdLst/>
            <a:ahLst/>
            <a:rect l="l" t="t" r="r" b="b"/>
            <a:pathLst>
              <a:path w="2084" h="1688">
                <a:moveTo>
                  <a:pt x="16173" y="5482"/>
                </a:moveTo>
                <a:cubicBezTo>
                  <a:pt x="16149" y="5741"/>
                  <a:pt x="16109" y="5998"/>
                  <a:pt x="16049" y="6251"/>
                </a:cubicBezTo>
                <a:cubicBezTo>
                  <a:pt x="16019" y="6339"/>
                  <a:pt x="16020" y="6352"/>
                  <a:pt x="16098" y="6226"/>
                </a:cubicBezTo>
              </a:path>
              <a:path w="2084" h="1688">
                <a:moveTo>
                  <a:pt x="16892" y="5581"/>
                </a:moveTo>
                <a:cubicBezTo>
                  <a:pt x="16786" y="5629"/>
                  <a:pt x="16408" y="5742"/>
                  <a:pt x="16545" y="5928"/>
                </a:cubicBezTo>
                <a:cubicBezTo>
                  <a:pt x="16688" y="6123"/>
                  <a:pt x="16758" y="6062"/>
                  <a:pt x="16718" y="6300"/>
                </a:cubicBezTo>
                <a:cubicBezTo>
                  <a:pt x="16685" y="6317"/>
                  <a:pt x="16652" y="6333"/>
                  <a:pt x="16619" y="6350"/>
                </a:cubicBezTo>
                <a:cubicBezTo>
                  <a:pt x="16454" y="6144"/>
                  <a:pt x="16556" y="5985"/>
                  <a:pt x="16743" y="5779"/>
                </a:cubicBezTo>
                <a:cubicBezTo>
                  <a:pt x="16776" y="5754"/>
                  <a:pt x="16809" y="5730"/>
                  <a:pt x="16842" y="5705"/>
                </a:cubicBezTo>
              </a:path>
              <a:path w="2084" h="1688">
                <a:moveTo>
                  <a:pt x="17314" y="5680"/>
                </a:moveTo>
                <a:cubicBezTo>
                  <a:pt x="17190" y="5882"/>
                  <a:pt x="17027" y="6095"/>
                  <a:pt x="17041" y="6350"/>
                </a:cubicBezTo>
                <a:cubicBezTo>
                  <a:pt x="17057" y="6383"/>
                  <a:pt x="17074" y="6416"/>
                  <a:pt x="17090" y="6449"/>
                </a:cubicBezTo>
                <a:cubicBezTo>
                  <a:pt x="17354" y="6354"/>
                  <a:pt x="17615" y="6173"/>
                  <a:pt x="17487" y="5829"/>
                </a:cubicBezTo>
                <a:cubicBezTo>
                  <a:pt x="17381" y="5750"/>
                  <a:pt x="17339" y="5726"/>
                  <a:pt x="17239" y="5779"/>
                </a:cubicBezTo>
              </a:path>
              <a:path w="2084" h="1688">
                <a:moveTo>
                  <a:pt x="15429" y="6623"/>
                </a:moveTo>
                <a:cubicBezTo>
                  <a:pt x="15603" y="6570"/>
                  <a:pt x="15677" y="6576"/>
                  <a:pt x="15850" y="6623"/>
                </a:cubicBezTo>
              </a:path>
              <a:path w="2084" h="1688">
                <a:moveTo>
                  <a:pt x="16148" y="6648"/>
                </a:moveTo>
                <a:cubicBezTo>
                  <a:pt x="16102" y="6807"/>
                  <a:pt x="16020" y="6966"/>
                  <a:pt x="15949" y="7119"/>
                </a:cubicBezTo>
                <a:cubicBezTo>
                  <a:pt x="15879" y="7269"/>
                  <a:pt x="16066" y="7051"/>
                  <a:pt x="16073" y="7045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41800" y="3276720"/>
            <a:ext cx="768240" cy="358560"/>
          </a:xfrm>
          <a:custGeom>
            <a:avLst/>
            <a:gdLst/>
            <a:ahLst/>
            <a:rect l="l" t="t" r="r" b="b"/>
            <a:pathLst>
              <a:path w="2134" h="994">
                <a:moveTo>
                  <a:pt x="9004" y="9525"/>
                </a:moveTo>
                <a:cubicBezTo>
                  <a:pt x="9113" y="9547"/>
                  <a:pt x="9210" y="9572"/>
                  <a:pt x="9327" y="9575"/>
                </a:cubicBezTo>
                <a:cubicBezTo>
                  <a:pt x="9385" y="9575"/>
                  <a:pt x="9393" y="9575"/>
                  <a:pt x="9426" y="9575"/>
                </a:cubicBezTo>
              </a:path>
              <a:path w="2134" h="994">
                <a:moveTo>
                  <a:pt x="9029" y="9723"/>
                </a:moveTo>
                <a:cubicBezTo>
                  <a:pt x="9156" y="9723"/>
                  <a:pt x="9275" y="9741"/>
                  <a:pt x="9401" y="9748"/>
                </a:cubicBezTo>
              </a:path>
              <a:path w="2134" h="994">
                <a:moveTo>
                  <a:pt x="9773" y="9451"/>
                </a:moveTo>
                <a:cubicBezTo>
                  <a:pt x="9773" y="9583"/>
                  <a:pt x="9745" y="9653"/>
                  <a:pt x="9699" y="9773"/>
                </a:cubicBezTo>
                <a:cubicBezTo>
                  <a:pt x="9823" y="9794"/>
                  <a:pt x="9970" y="9780"/>
                  <a:pt x="10096" y="9748"/>
                </a:cubicBezTo>
              </a:path>
              <a:path w="2134" h="994">
                <a:moveTo>
                  <a:pt x="10145" y="9351"/>
                </a:moveTo>
                <a:cubicBezTo>
                  <a:pt x="10076" y="9551"/>
                  <a:pt x="10030" y="9765"/>
                  <a:pt x="9971" y="9971"/>
                </a:cubicBezTo>
                <a:cubicBezTo>
                  <a:pt x="9971" y="10011"/>
                  <a:pt x="9982" y="10009"/>
                  <a:pt x="10021" y="9947"/>
                </a:cubicBezTo>
              </a:path>
              <a:path w="2134" h="994">
                <a:moveTo>
                  <a:pt x="10492" y="9475"/>
                </a:moveTo>
                <a:cubicBezTo>
                  <a:pt x="10359" y="9543"/>
                  <a:pt x="10295" y="9698"/>
                  <a:pt x="10269" y="9847"/>
                </a:cubicBezTo>
                <a:cubicBezTo>
                  <a:pt x="10269" y="9967"/>
                  <a:pt x="10267" y="10005"/>
                  <a:pt x="10319" y="10071"/>
                </a:cubicBezTo>
                <a:cubicBezTo>
                  <a:pt x="10565" y="10071"/>
                  <a:pt x="10745" y="9986"/>
                  <a:pt x="10765" y="9699"/>
                </a:cubicBezTo>
                <a:cubicBezTo>
                  <a:pt x="10782" y="9460"/>
                  <a:pt x="10600" y="9434"/>
                  <a:pt x="10418" y="9426"/>
                </a:cubicBezTo>
                <a:cubicBezTo>
                  <a:pt x="10410" y="9426"/>
                  <a:pt x="10401" y="9426"/>
                  <a:pt x="10393" y="9426"/>
                </a:cubicBezTo>
              </a:path>
              <a:path w="2134" h="994">
                <a:moveTo>
                  <a:pt x="11063" y="9153"/>
                </a:moveTo>
                <a:cubicBezTo>
                  <a:pt x="10989" y="9183"/>
                  <a:pt x="10977" y="9221"/>
                  <a:pt x="10964" y="9302"/>
                </a:cubicBezTo>
                <a:cubicBezTo>
                  <a:pt x="11006" y="9293"/>
                  <a:pt x="11229" y="9221"/>
                  <a:pt x="11137" y="9128"/>
                </a:cubicBezTo>
                <a:cubicBezTo>
                  <a:pt x="11080" y="9109"/>
                  <a:pt x="11073" y="9100"/>
                  <a:pt x="11038" y="9103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446960" y="1490760"/>
            <a:ext cx="482760" cy="492120"/>
          </a:xfrm>
          <a:custGeom>
            <a:avLst/>
            <a:gdLst/>
            <a:ahLst/>
            <a:rect l="l" t="t" r="r" b="b"/>
            <a:pathLst>
              <a:path w="1341" h="1366">
                <a:moveTo>
                  <a:pt x="21282" y="4266"/>
                </a:moveTo>
                <a:cubicBezTo>
                  <a:pt x="21274" y="4299"/>
                  <a:pt x="21266" y="4333"/>
                  <a:pt x="21258" y="4366"/>
                </a:cubicBezTo>
                <a:cubicBezTo>
                  <a:pt x="21258" y="4422"/>
                  <a:pt x="21259" y="4272"/>
                  <a:pt x="21307" y="4242"/>
                </a:cubicBezTo>
                <a:cubicBezTo>
                  <a:pt x="21395" y="4187"/>
                  <a:pt x="21531" y="4181"/>
                  <a:pt x="21630" y="4142"/>
                </a:cubicBezTo>
                <a:cubicBezTo>
                  <a:pt x="21667" y="4258"/>
                  <a:pt x="21574" y="4512"/>
                  <a:pt x="21530" y="4638"/>
                </a:cubicBezTo>
                <a:cubicBezTo>
                  <a:pt x="21514" y="4671"/>
                  <a:pt x="21497" y="4705"/>
                  <a:pt x="21481" y="4738"/>
                </a:cubicBezTo>
              </a:path>
              <a:path w="1341" h="1366">
                <a:moveTo>
                  <a:pt x="21828" y="4217"/>
                </a:moveTo>
                <a:cubicBezTo>
                  <a:pt x="21767" y="4412"/>
                  <a:pt x="21724" y="4551"/>
                  <a:pt x="21779" y="4738"/>
                </a:cubicBezTo>
                <a:cubicBezTo>
                  <a:pt x="21951" y="4687"/>
                  <a:pt x="22142" y="4514"/>
                  <a:pt x="22002" y="4291"/>
                </a:cubicBezTo>
                <a:cubicBezTo>
                  <a:pt x="21903" y="4242"/>
                  <a:pt x="21869" y="4226"/>
                  <a:pt x="21803" y="4291"/>
                </a:cubicBezTo>
              </a:path>
              <a:path w="1341" h="1366">
                <a:moveTo>
                  <a:pt x="20836" y="5060"/>
                </a:moveTo>
                <a:cubicBezTo>
                  <a:pt x="20844" y="5209"/>
                  <a:pt x="20853" y="5333"/>
                  <a:pt x="20836" y="5482"/>
                </a:cubicBezTo>
              </a:path>
              <a:path w="1341" h="1366">
                <a:moveTo>
                  <a:pt x="20687" y="5283"/>
                </a:moveTo>
                <a:cubicBezTo>
                  <a:pt x="20858" y="5277"/>
                  <a:pt x="21014" y="5261"/>
                  <a:pt x="21183" y="5234"/>
                </a:cubicBezTo>
              </a:path>
              <a:path w="1341" h="1366">
                <a:moveTo>
                  <a:pt x="21307" y="5060"/>
                </a:moveTo>
                <a:cubicBezTo>
                  <a:pt x="21291" y="5158"/>
                  <a:pt x="21207" y="5336"/>
                  <a:pt x="21258" y="5432"/>
                </a:cubicBezTo>
                <a:cubicBezTo>
                  <a:pt x="21327" y="5560"/>
                  <a:pt x="21519" y="5361"/>
                  <a:pt x="21555" y="5333"/>
                </a:cubicBezTo>
                <a:cubicBezTo>
                  <a:pt x="21555" y="5275"/>
                  <a:pt x="21571" y="5251"/>
                  <a:pt x="21530" y="5259"/>
                </a:cubicBezTo>
                <a:cubicBezTo>
                  <a:pt x="21375" y="5380"/>
                  <a:pt x="21305" y="5501"/>
                  <a:pt x="21555" y="5457"/>
                </a:cubicBezTo>
              </a:path>
              <a:path w="1341" h="1366">
                <a:moveTo>
                  <a:pt x="21679" y="5209"/>
                </a:moveTo>
                <a:cubicBezTo>
                  <a:pt x="21697" y="5225"/>
                  <a:pt x="21925" y="5406"/>
                  <a:pt x="21878" y="5432"/>
                </a:cubicBezTo>
                <a:cubicBezTo>
                  <a:pt x="21861" y="5432"/>
                  <a:pt x="21845" y="5432"/>
                  <a:pt x="21828" y="5432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608960" y="2197080"/>
            <a:ext cx="384120" cy="160200"/>
          </a:xfrm>
          <a:custGeom>
            <a:avLst/>
            <a:gdLst/>
            <a:ahLst/>
            <a:rect l="l" t="t" r="r" b="b"/>
            <a:pathLst>
              <a:path w="1067" h="447">
                <a:moveTo>
                  <a:pt x="21134" y="6300"/>
                </a:moveTo>
                <a:cubicBezTo>
                  <a:pt x="21134" y="6362"/>
                  <a:pt x="21078" y="6638"/>
                  <a:pt x="21158" y="6474"/>
                </a:cubicBezTo>
              </a:path>
              <a:path w="1067" h="447">
                <a:moveTo>
                  <a:pt x="21431" y="6102"/>
                </a:moveTo>
                <a:cubicBezTo>
                  <a:pt x="21604" y="6111"/>
                  <a:pt x="21698" y="6109"/>
                  <a:pt x="21555" y="6251"/>
                </a:cubicBezTo>
                <a:cubicBezTo>
                  <a:pt x="21547" y="6259"/>
                  <a:pt x="21538" y="6268"/>
                  <a:pt x="21530" y="6276"/>
                </a:cubicBezTo>
                <a:cubicBezTo>
                  <a:pt x="21637" y="6276"/>
                  <a:pt x="21793" y="6281"/>
                  <a:pt x="21803" y="6424"/>
                </a:cubicBezTo>
                <a:cubicBezTo>
                  <a:pt x="21812" y="6549"/>
                  <a:pt x="21569" y="6637"/>
                  <a:pt x="21555" y="6424"/>
                </a:cubicBezTo>
              </a:path>
              <a:path w="1067" h="447">
                <a:moveTo>
                  <a:pt x="21977" y="6102"/>
                </a:moveTo>
                <a:cubicBezTo>
                  <a:pt x="21946" y="6272"/>
                  <a:pt x="22068" y="6251"/>
                  <a:pt x="22175" y="6375"/>
                </a:cubicBezTo>
                <a:cubicBezTo>
                  <a:pt x="22228" y="6436"/>
                  <a:pt x="22105" y="6423"/>
                  <a:pt x="22027" y="6400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447040" y="1419120"/>
            <a:ext cx="573120" cy="930240"/>
          </a:xfrm>
          <a:custGeom>
            <a:avLst/>
            <a:gdLst/>
            <a:ahLst/>
            <a:rect l="l" t="t" r="r" b="b"/>
            <a:pathLst>
              <a:path w="1589" h="2581">
                <a:moveTo>
                  <a:pt x="23912" y="3969"/>
                </a:moveTo>
                <a:cubicBezTo>
                  <a:pt x="23921" y="4181"/>
                  <a:pt x="23924" y="4378"/>
                  <a:pt x="23912" y="4589"/>
                </a:cubicBezTo>
              </a:path>
              <a:path w="1589" h="2581">
                <a:moveTo>
                  <a:pt x="24110" y="3969"/>
                </a:moveTo>
                <a:cubicBezTo>
                  <a:pt x="24038" y="4127"/>
                  <a:pt x="24115" y="4206"/>
                  <a:pt x="24185" y="4366"/>
                </a:cubicBezTo>
                <a:cubicBezTo>
                  <a:pt x="24233" y="4474"/>
                  <a:pt x="24167" y="4469"/>
                  <a:pt x="24085" y="4514"/>
                </a:cubicBezTo>
                <a:cubicBezTo>
                  <a:pt x="24051" y="4320"/>
                  <a:pt x="24158" y="4212"/>
                  <a:pt x="24284" y="4068"/>
                </a:cubicBezTo>
                <a:cubicBezTo>
                  <a:pt x="24292" y="4060"/>
                  <a:pt x="24301" y="4051"/>
                  <a:pt x="24309" y="4043"/>
                </a:cubicBezTo>
              </a:path>
              <a:path w="1589" h="2581">
                <a:moveTo>
                  <a:pt x="24581" y="3944"/>
                </a:moveTo>
                <a:cubicBezTo>
                  <a:pt x="24513" y="4125"/>
                  <a:pt x="24487" y="4218"/>
                  <a:pt x="24557" y="4390"/>
                </a:cubicBezTo>
                <a:cubicBezTo>
                  <a:pt x="24651" y="4390"/>
                  <a:pt x="24954" y="4248"/>
                  <a:pt x="24705" y="4142"/>
                </a:cubicBezTo>
                <a:cubicBezTo>
                  <a:pt x="24656" y="4142"/>
                  <a:pt x="24606" y="4142"/>
                  <a:pt x="24557" y="4142"/>
                </a:cubicBezTo>
              </a:path>
              <a:path w="1589" h="2581">
                <a:moveTo>
                  <a:pt x="23812" y="5060"/>
                </a:moveTo>
                <a:cubicBezTo>
                  <a:pt x="23812" y="5188"/>
                  <a:pt x="23822" y="5282"/>
                  <a:pt x="23837" y="5407"/>
                </a:cubicBezTo>
              </a:path>
              <a:path w="1589" h="2581">
                <a:moveTo>
                  <a:pt x="24085" y="4986"/>
                </a:moveTo>
                <a:cubicBezTo>
                  <a:pt x="24135" y="4986"/>
                  <a:pt x="24184" y="4986"/>
                  <a:pt x="24234" y="4986"/>
                </a:cubicBezTo>
                <a:cubicBezTo>
                  <a:pt x="24185" y="5059"/>
                  <a:pt x="24080" y="5104"/>
                  <a:pt x="24061" y="5184"/>
                </a:cubicBezTo>
                <a:cubicBezTo>
                  <a:pt x="24128" y="5231"/>
                  <a:pt x="24238" y="5370"/>
                  <a:pt x="24085" y="5432"/>
                </a:cubicBezTo>
                <a:cubicBezTo>
                  <a:pt x="23916" y="5501"/>
                  <a:pt x="24084" y="5285"/>
                  <a:pt x="24085" y="5283"/>
                </a:cubicBezTo>
              </a:path>
              <a:path w="1589" h="2581">
                <a:moveTo>
                  <a:pt x="24358" y="5035"/>
                </a:moveTo>
                <a:cubicBezTo>
                  <a:pt x="24358" y="5077"/>
                  <a:pt x="24341" y="5157"/>
                  <a:pt x="24383" y="5184"/>
                </a:cubicBezTo>
                <a:cubicBezTo>
                  <a:pt x="24494" y="5255"/>
                  <a:pt x="24533" y="5248"/>
                  <a:pt x="24606" y="5358"/>
                </a:cubicBezTo>
                <a:cubicBezTo>
                  <a:pt x="24489" y="5449"/>
                  <a:pt x="24512" y="5425"/>
                  <a:pt x="24358" y="5383"/>
                </a:cubicBezTo>
              </a:path>
              <a:path w="1589" h="2581">
                <a:moveTo>
                  <a:pt x="24408" y="4961"/>
                </a:moveTo>
                <a:cubicBezTo>
                  <a:pt x="24548" y="4934"/>
                  <a:pt x="24688" y="4904"/>
                  <a:pt x="24829" y="4887"/>
                </a:cubicBezTo>
              </a:path>
              <a:path w="1589" h="2581">
                <a:moveTo>
                  <a:pt x="23465" y="5755"/>
                </a:moveTo>
                <a:cubicBezTo>
                  <a:pt x="23912" y="5709"/>
                  <a:pt x="24356" y="5664"/>
                  <a:pt x="24805" y="5655"/>
                </a:cubicBezTo>
                <a:cubicBezTo>
                  <a:pt x="24962" y="5655"/>
                  <a:pt x="24970" y="5655"/>
                  <a:pt x="25053" y="5655"/>
                </a:cubicBezTo>
              </a:path>
              <a:path w="1589" h="2581">
                <a:moveTo>
                  <a:pt x="24061" y="6077"/>
                </a:moveTo>
                <a:cubicBezTo>
                  <a:pt x="24061" y="6035"/>
                  <a:pt x="24019" y="6141"/>
                  <a:pt x="24036" y="6201"/>
                </a:cubicBezTo>
                <a:cubicBezTo>
                  <a:pt x="24073" y="6331"/>
                  <a:pt x="24185" y="6283"/>
                  <a:pt x="24284" y="6276"/>
                </a:cubicBezTo>
                <a:cubicBezTo>
                  <a:pt x="24300" y="6276"/>
                  <a:pt x="24317" y="6276"/>
                  <a:pt x="24333" y="6276"/>
                </a:cubicBezTo>
              </a:path>
              <a:path w="1589" h="2581">
                <a:moveTo>
                  <a:pt x="24234" y="5978"/>
                </a:moveTo>
                <a:cubicBezTo>
                  <a:pt x="24234" y="6139"/>
                  <a:pt x="24224" y="6290"/>
                  <a:pt x="24209" y="6449"/>
                </a:cubicBezTo>
                <a:cubicBezTo>
                  <a:pt x="24209" y="6491"/>
                  <a:pt x="24209" y="6499"/>
                  <a:pt x="24209" y="6524"/>
                </a:cubicBezTo>
              </a:path>
              <a:path w="1589" h="2581">
                <a:moveTo>
                  <a:pt x="24681" y="6077"/>
                </a:moveTo>
                <a:cubicBezTo>
                  <a:pt x="24615" y="6133"/>
                  <a:pt x="24551" y="6183"/>
                  <a:pt x="24631" y="6251"/>
                </a:cubicBezTo>
                <a:cubicBezTo>
                  <a:pt x="24706" y="6315"/>
                  <a:pt x="24802" y="6400"/>
                  <a:pt x="24681" y="6499"/>
                </a:cubicBezTo>
                <a:cubicBezTo>
                  <a:pt x="24527" y="6624"/>
                  <a:pt x="24537" y="6451"/>
                  <a:pt x="24532" y="6375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d Problem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nd of a roof is in the shape of an isosceles triangle. The measure of an angle at the peak, between the two equal sides, is 120°. The other two angle measures are equal. What is their meas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411960" y="581040"/>
            <a:ext cx="2490840" cy="982800"/>
          </a:xfrm>
          <a:custGeom>
            <a:avLst/>
            <a:gdLst/>
            <a:ahLst/>
            <a:rect l="l" t="t" r="r" b="b"/>
            <a:pathLst>
              <a:path w="6921" h="2730">
                <a:moveTo>
                  <a:pt x="21134" y="1637"/>
                </a:moveTo>
                <a:cubicBezTo>
                  <a:pt x="21134" y="1612"/>
                  <a:pt x="21134" y="1604"/>
                  <a:pt x="21158" y="1612"/>
                </a:cubicBezTo>
                <a:cubicBezTo>
                  <a:pt x="21105" y="1653"/>
                  <a:pt x="21040" y="1707"/>
                  <a:pt x="20985" y="1761"/>
                </a:cubicBezTo>
                <a:cubicBezTo>
                  <a:pt x="20910" y="1834"/>
                  <a:pt x="20837" y="1917"/>
                  <a:pt x="20762" y="1984"/>
                </a:cubicBezTo>
                <a:cubicBezTo>
                  <a:pt x="20688" y="2050"/>
                  <a:pt x="20617" y="2122"/>
                  <a:pt x="20538" y="2183"/>
                </a:cubicBezTo>
                <a:cubicBezTo>
                  <a:pt x="20430" y="2266"/>
                  <a:pt x="20322" y="2349"/>
                  <a:pt x="20216" y="2431"/>
                </a:cubicBezTo>
                <a:cubicBezTo>
                  <a:pt x="20104" y="2518"/>
                  <a:pt x="19995" y="2636"/>
                  <a:pt x="19869" y="2704"/>
                </a:cubicBezTo>
                <a:cubicBezTo>
                  <a:pt x="19691" y="2799"/>
                  <a:pt x="19513" y="2880"/>
                  <a:pt x="19348" y="3001"/>
                </a:cubicBezTo>
                <a:cubicBezTo>
                  <a:pt x="19087" y="3192"/>
                  <a:pt x="18855" y="3426"/>
                  <a:pt x="18579" y="3597"/>
                </a:cubicBezTo>
                <a:cubicBezTo>
                  <a:pt x="18381" y="3720"/>
                  <a:pt x="18200" y="3860"/>
                  <a:pt x="18008" y="3994"/>
                </a:cubicBezTo>
                <a:cubicBezTo>
                  <a:pt x="17939" y="4042"/>
                  <a:pt x="17875" y="4091"/>
                  <a:pt x="17810" y="4142"/>
                </a:cubicBezTo>
              </a:path>
              <a:path w="6921" h="2730">
                <a:moveTo>
                  <a:pt x="21282" y="1637"/>
                </a:moveTo>
                <a:cubicBezTo>
                  <a:pt x="21340" y="1654"/>
                  <a:pt x="21351" y="1664"/>
                  <a:pt x="21406" y="1687"/>
                </a:cubicBezTo>
                <a:cubicBezTo>
                  <a:pt x="21474" y="1715"/>
                  <a:pt x="21559" y="1730"/>
                  <a:pt x="21630" y="1761"/>
                </a:cubicBezTo>
                <a:cubicBezTo>
                  <a:pt x="21686" y="1785"/>
                  <a:pt x="21747" y="1823"/>
                  <a:pt x="21803" y="1860"/>
                </a:cubicBezTo>
                <a:cubicBezTo>
                  <a:pt x="21903" y="1927"/>
                  <a:pt x="22004" y="1991"/>
                  <a:pt x="22101" y="2059"/>
                </a:cubicBezTo>
                <a:cubicBezTo>
                  <a:pt x="22180" y="2115"/>
                  <a:pt x="22276" y="2169"/>
                  <a:pt x="22349" y="2232"/>
                </a:cubicBezTo>
                <a:cubicBezTo>
                  <a:pt x="22446" y="2315"/>
                  <a:pt x="22536" y="2442"/>
                  <a:pt x="22647" y="2505"/>
                </a:cubicBezTo>
                <a:cubicBezTo>
                  <a:pt x="22723" y="2548"/>
                  <a:pt x="22774" y="2581"/>
                  <a:pt x="22845" y="2629"/>
                </a:cubicBezTo>
                <a:cubicBezTo>
                  <a:pt x="22923" y="2681"/>
                  <a:pt x="23024" y="2750"/>
                  <a:pt x="23118" y="2778"/>
                </a:cubicBezTo>
                <a:cubicBezTo>
                  <a:pt x="23248" y="2816"/>
                  <a:pt x="23341" y="2828"/>
                  <a:pt x="23465" y="2902"/>
                </a:cubicBezTo>
                <a:cubicBezTo>
                  <a:pt x="23578" y="2969"/>
                  <a:pt x="23677" y="3055"/>
                  <a:pt x="23788" y="3125"/>
                </a:cubicBezTo>
                <a:cubicBezTo>
                  <a:pt x="23917" y="3207"/>
                  <a:pt x="24031" y="3258"/>
                  <a:pt x="24135" y="3373"/>
                </a:cubicBezTo>
                <a:cubicBezTo>
                  <a:pt x="24179" y="3421"/>
                  <a:pt x="24243" y="3476"/>
                  <a:pt x="24284" y="3522"/>
                </a:cubicBezTo>
                <a:cubicBezTo>
                  <a:pt x="24354" y="3601"/>
                  <a:pt x="24403" y="3607"/>
                  <a:pt x="24482" y="3671"/>
                </a:cubicBezTo>
                <a:cubicBezTo>
                  <a:pt x="24487" y="3675"/>
                  <a:pt x="24545" y="3741"/>
                  <a:pt x="24557" y="3746"/>
                </a:cubicBezTo>
                <a:cubicBezTo>
                  <a:pt x="24602" y="3765"/>
                  <a:pt x="24661" y="3785"/>
                  <a:pt x="24681" y="3795"/>
                </a:cubicBezTo>
                <a:cubicBezTo>
                  <a:pt x="24709" y="3795"/>
                  <a:pt x="24719" y="3798"/>
                  <a:pt x="24730" y="3820"/>
                </a:cubicBezTo>
              </a:path>
              <a:path w="6921" h="2730">
                <a:moveTo>
                  <a:pt x="17859" y="4341"/>
                </a:moveTo>
                <a:cubicBezTo>
                  <a:pt x="17905" y="4327"/>
                  <a:pt x="18049" y="4273"/>
                  <a:pt x="18132" y="4266"/>
                </a:cubicBezTo>
                <a:cubicBezTo>
                  <a:pt x="18786" y="4209"/>
                  <a:pt x="19461" y="4278"/>
                  <a:pt x="20117" y="4242"/>
                </a:cubicBezTo>
                <a:cubicBezTo>
                  <a:pt x="20345" y="4229"/>
                  <a:pt x="20559" y="4228"/>
                  <a:pt x="20786" y="4192"/>
                </a:cubicBezTo>
                <a:cubicBezTo>
                  <a:pt x="20969" y="4163"/>
                  <a:pt x="21149" y="4154"/>
                  <a:pt x="21332" y="4118"/>
                </a:cubicBezTo>
                <a:cubicBezTo>
                  <a:pt x="21508" y="4084"/>
                  <a:pt x="21677" y="4065"/>
                  <a:pt x="21853" y="4043"/>
                </a:cubicBezTo>
                <a:cubicBezTo>
                  <a:pt x="22016" y="4022"/>
                  <a:pt x="22185" y="3981"/>
                  <a:pt x="22349" y="3969"/>
                </a:cubicBezTo>
                <a:cubicBezTo>
                  <a:pt x="22471" y="3960"/>
                  <a:pt x="22602" y="3949"/>
                  <a:pt x="22721" y="3944"/>
                </a:cubicBezTo>
                <a:cubicBezTo>
                  <a:pt x="22848" y="3938"/>
                  <a:pt x="22967" y="3926"/>
                  <a:pt x="23093" y="3919"/>
                </a:cubicBezTo>
                <a:cubicBezTo>
                  <a:pt x="23234" y="3911"/>
                  <a:pt x="23374" y="3905"/>
                  <a:pt x="23515" y="3894"/>
                </a:cubicBezTo>
                <a:cubicBezTo>
                  <a:pt x="23654" y="3883"/>
                  <a:pt x="23797" y="3882"/>
                  <a:pt x="23937" y="3870"/>
                </a:cubicBezTo>
                <a:cubicBezTo>
                  <a:pt x="24076" y="3858"/>
                  <a:pt x="24229" y="3852"/>
                  <a:pt x="24333" y="3870"/>
                </a:cubicBezTo>
              </a:path>
              <a:path w="6921" h="2730">
                <a:moveTo>
                  <a:pt x="19447" y="2679"/>
                </a:moveTo>
                <a:cubicBezTo>
                  <a:pt x="19565" y="2750"/>
                  <a:pt x="19665" y="2960"/>
                  <a:pt x="19769" y="3076"/>
                </a:cubicBezTo>
                <a:cubicBezTo>
                  <a:pt x="19817" y="3130"/>
                  <a:pt x="19833" y="3087"/>
                  <a:pt x="19893" y="3051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483320" y="633240"/>
            <a:ext cx="374760" cy="339840"/>
          </a:xfrm>
          <a:custGeom>
            <a:avLst/>
            <a:gdLst/>
            <a:ahLst/>
            <a:rect l="l" t="t" r="r" b="b"/>
            <a:pathLst>
              <a:path w="1043" h="944">
                <a:moveTo>
                  <a:pt x="20811" y="2084"/>
                </a:moveTo>
                <a:cubicBezTo>
                  <a:pt x="20803" y="2076"/>
                  <a:pt x="20794" y="2067"/>
                  <a:pt x="20786" y="2059"/>
                </a:cubicBezTo>
                <a:cubicBezTo>
                  <a:pt x="20987" y="2059"/>
                  <a:pt x="21164" y="2060"/>
                  <a:pt x="21357" y="2009"/>
                </a:cubicBezTo>
                <a:cubicBezTo>
                  <a:pt x="21463" y="1981"/>
                  <a:pt x="21601" y="1919"/>
                  <a:pt x="21679" y="1836"/>
                </a:cubicBezTo>
                <a:cubicBezTo>
                  <a:pt x="21722" y="1791"/>
                  <a:pt x="21696" y="1776"/>
                  <a:pt x="21754" y="1761"/>
                </a:cubicBezTo>
              </a:path>
              <a:path w="1043" h="944">
                <a:moveTo>
                  <a:pt x="20935" y="2431"/>
                </a:moveTo>
                <a:cubicBezTo>
                  <a:pt x="20947" y="2503"/>
                  <a:pt x="20959" y="2614"/>
                  <a:pt x="20985" y="2679"/>
                </a:cubicBezTo>
                <a:cubicBezTo>
                  <a:pt x="20993" y="2687"/>
                  <a:pt x="21002" y="2696"/>
                  <a:pt x="21010" y="2704"/>
                </a:cubicBezTo>
              </a:path>
              <a:path w="1043" h="944">
                <a:moveTo>
                  <a:pt x="21109" y="2406"/>
                </a:moveTo>
                <a:cubicBezTo>
                  <a:pt x="21154" y="2353"/>
                  <a:pt x="21155" y="2345"/>
                  <a:pt x="21233" y="2332"/>
                </a:cubicBezTo>
                <a:cubicBezTo>
                  <a:pt x="21280" y="2441"/>
                  <a:pt x="21236" y="2498"/>
                  <a:pt x="21183" y="2604"/>
                </a:cubicBezTo>
                <a:cubicBezTo>
                  <a:pt x="21175" y="2621"/>
                  <a:pt x="21166" y="2637"/>
                  <a:pt x="21158" y="2654"/>
                </a:cubicBezTo>
                <a:cubicBezTo>
                  <a:pt x="21247" y="2654"/>
                  <a:pt x="21275" y="2633"/>
                  <a:pt x="21357" y="2604"/>
                </a:cubicBezTo>
                <a:cubicBezTo>
                  <a:pt x="21382" y="2604"/>
                  <a:pt x="21390" y="2604"/>
                  <a:pt x="21406" y="2604"/>
                </a:cubicBezTo>
              </a:path>
              <a:path w="1043" h="944">
                <a:moveTo>
                  <a:pt x="21506" y="2232"/>
                </a:moveTo>
                <a:cubicBezTo>
                  <a:pt x="21469" y="2296"/>
                  <a:pt x="21387" y="2457"/>
                  <a:pt x="21456" y="2530"/>
                </a:cubicBezTo>
                <a:cubicBezTo>
                  <a:pt x="21550" y="2630"/>
                  <a:pt x="21734" y="2564"/>
                  <a:pt x="21754" y="2431"/>
                </a:cubicBezTo>
                <a:cubicBezTo>
                  <a:pt x="21778" y="2271"/>
                  <a:pt x="21615" y="2294"/>
                  <a:pt x="21530" y="2257"/>
                </a:cubicBezTo>
                <a:cubicBezTo>
                  <a:pt x="21522" y="2249"/>
                  <a:pt x="21514" y="2240"/>
                  <a:pt x="21506" y="2232"/>
                </a:cubicBezTo>
              </a:path>
              <a:path w="1043" h="944">
                <a:moveTo>
                  <a:pt x="21754" y="2034"/>
                </a:moveTo>
                <a:cubicBezTo>
                  <a:pt x="21769" y="2093"/>
                  <a:pt x="21866" y="2110"/>
                  <a:pt x="21828" y="2034"/>
                </a:cubicBezTo>
                <a:cubicBezTo>
                  <a:pt x="21820" y="2034"/>
                  <a:pt x="21811" y="2034"/>
                  <a:pt x="21803" y="2034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242200" y="955800"/>
            <a:ext cx="135000" cy="133200"/>
          </a:xfrm>
          <a:custGeom>
            <a:avLst/>
            <a:gdLst/>
            <a:ahLst/>
            <a:rect l="l" t="t" r="r" b="b"/>
            <a:pathLst>
              <a:path w="373" h="373">
                <a:moveTo>
                  <a:pt x="23267" y="2654"/>
                </a:moveTo>
                <a:cubicBezTo>
                  <a:pt x="23253" y="2696"/>
                  <a:pt x="23097" y="2824"/>
                  <a:pt x="23068" y="2853"/>
                </a:cubicBezTo>
                <a:cubicBezTo>
                  <a:pt x="22969" y="2952"/>
                  <a:pt x="22953" y="2968"/>
                  <a:pt x="22895" y="3026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555040" y="1187280"/>
            <a:ext cx="108000" cy="169920"/>
          </a:xfrm>
          <a:custGeom>
            <a:avLst/>
            <a:gdLst/>
            <a:ahLst/>
            <a:rect l="l" t="t" r="r" b="b"/>
            <a:pathLst>
              <a:path w="299" h="472">
                <a:moveTo>
                  <a:pt x="24061" y="3299"/>
                </a:moveTo>
                <a:cubicBezTo>
                  <a:pt x="24039" y="3385"/>
                  <a:pt x="23938" y="3422"/>
                  <a:pt x="23912" y="3522"/>
                </a:cubicBezTo>
                <a:cubicBezTo>
                  <a:pt x="23902" y="3562"/>
                  <a:pt x="23919" y="3719"/>
                  <a:pt x="23961" y="3746"/>
                </a:cubicBezTo>
                <a:cubicBezTo>
                  <a:pt x="23987" y="3763"/>
                  <a:pt x="23980" y="3760"/>
                  <a:pt x="24011" y="3770"/>
                </a:cubicBezTo>
              </a:path>
              <a:path w="299" h="472">
                <a:moveTo>
                  <a:pt x="23763" y="3497"/>
                </a:moveTo>
                <a:cubicBezTo>
                  <a:pt x="23789" y="3471"/>
                  <a:pt x="23919" y="3512"/>
                  <a:pt x="23986" y="3522"/>
                </a:cubicBezTo>
                <a:cubicBezTo>
                  <a:pt x="24010" y="3526"/>
                  <a:pt x="24037" y="3522"/>
                  <a:pt x="24061" y="3522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581880" y="1285920"/>
            <a:ext cx="507960" cy="241200"/>
          </a:xfrm>
          <a:custGeom>
            <a:avLst/>
            <a:gdLst/>
            <a:ahLst/>
            <a:rect l="l" t="t" r="r" b="b"/>
            <a:pathLst>
              <a:path w="1415" h="671">
                <a:moveTo>
                  <a:pt x="18281" y="3795"/>
                </a:moveTo>
                <a:cubicBezTo>
                  <a:pt x="18316" y="3866"/>
                  <a:pt x="18434" y="3982"/>
                  <a:pt x="18504" y="4043"/>
                </a:cubicBezTo>
                <a:cubicBezTo>
                  <a:pt x="18603" y="4129"/>
                  <a:pt x="18581" y="4108"/>
                  <a:pt x="18554" y="4217"/>
                </a:cubicBezTo>
                <a:cubicBezTo>
                  <a:pt x="18554" y="4225"/>
                  <a:pt x="18554" y="4234"/>
                  <a:pt x="18554" y="4242"/>
                </a:cubicBezTo>
              </a:path>
              <a:path w="1415" h="671">
                <a:moveTo>
                  <a:pt x="18281" y="4093"/>
                </a:moveTo>
                <a:cubicBezTo>
                  <a:pt x="18375" y="4061"/>
                  <a:pt x="18461" y="3985"/>
                  <a:pt x="18554" y="3944"/>
                </a:cubicBezTo>
                <a:cubicBezTo>
                  <a:pt x="18582" y="3944"/>
                  <a:pt x="18593" y="3942"/>
                  <a:pt x="18604" y="3919"/>
                </a:cubicBezTo>
              </a:path>
              <a:path w="1415" h="671">
                <a:moveTo>
                  <a:pt x="18827" y="3671"/>
                </a:moveTo>
                <a:cubicBezTo>
                  <a:pt x="18891" y="3671"/>
                  <a:pt x="18941" y="3659"/>
                  <a:pt x="19000" y="3646"/>
                </a:cubicBezTo>
                <a:cubicBezTo>
                  <a:pt x="19008" y="3646"/>
                  <a:pt x="19017" y="3646"/>
                  <a:pt x="19025" y="3646"/>
                </a:cubicBezTo>
                <a:cubicBezTo>
                  <a:pt x="19002" y="3747"/>
                  <a:pt x="18974" y="3789"/>
                  <a:pt x="18901" y="3870"/>
                </a:cubicBezTo>
                <a:cubicBezTo>
                  <a:pt x="18930" y="3865"/>
                  <a:pt x="19130" y="3791"/>
                  <a:pt x="19050" y="3919"/>
                </a:cubicBezTo>
                <a:cubicBezTo>
                  <a:pt x="18963" y="4060"/>
                  <a:pt x="18885" y="4051"/>
                  <a:pt x="18752" y="4043"/>
                </a:cubicBezTo>
              </a:path>
              <a:path w="1415" h="671">
                <a:moveTo>
                  <a:pt x="19323" y="3621"/>
                </a:moveTo>
                <a:cubicBezTo>
                  <a:pt x="19245" y="3831"/>
                  <a:pt x="19225" y="3934"/>
                  <a:pt x="19348" y="4118"/>
                </a:cubicBezTo>
                <a:cubicBezTo>
                  <a:pt x="19537" y="4013"/>
                  <a:pt x="19648" y="3892"/>
                  <a:pt x="19447" y="3696"/>
                </a:cubicBezTo>
                <a:cubicBezTo>
                  <a:pt x="19364" y="3654"/>
                  <a:pt x="19348" y="3646"/>
                  <a:pt x="19298" y="3621"/>
                </a:cubicBezTo>
              </a:path>
              <a:path w="1415" h="671">
                <a:moveTo>
                  <a:pt x="19571" y="3572"/>
                </a:moveTo>
                <a:cubicBezTo>
                  <a:pt x="19564" y="3609"/>
                  <a:pt x="19528" y="3712"/>
                  <a:pt x="19645" y="3671"/>
                </a:cubicBezTo>
                <a:cubicBezTo>
                  <a:pt x="19709" y="3648"/>
                  <a:pt x="19639" y="3602"/>
                  <a:pt x="19571" y="3597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62640" y="4456080"/>
            <a:ext cx="2652480" cy="1152720"/>
          </a:xfrm>
          <a:custGeom>
            <a:avLst/>
            <a:gdLst/>
            <a:ahLst/>
            <a:rect l="l" t="t" r="r" b="b"/>
            <a:pathLst>
              <a:path w="7368" h="3200">
                <a:moveTo>
                  <a:pt x="13643" y="12378"/>
                </a:moveTo>
                <a:cubicBezTo>
                  <a:pt x="13643" y="12588"/>
                  <a:pt x="13606" y="12789"/>
                  <a:pt x="13593" y="12998"/>
                </a:cubicBezTo>
                <a:cubicBezTo>
                  <a:pt x="13586" y="13116"/>
                  <a:pt x="13525" y="13282"/>
                  <a:pt x="13618" y="13097"/>
                </a:cubicBezTo>
              </a:path>
              <a:path w="7368" h="3200">
                <a:moveTo>
                  <a:pt x="14039" y="12502"/>
                </a:moveTo>
                <a:cubicBezTo>
                  <a:pt x="13910" y="12567"/>
                  <a:pt x="13866" y="12571"/>
                  <a:pt x="13866" y="12675"/>
                </a:cubicBezTo>
                <a:cubicBezTo>
                  <a:pt x="13965" y="12774"/>
                  <a:pt x="14244" y="12971"/>
                  <a:pt x="14114" y="13146"/>
                </a:cubicBezTo>
                <a:cubicBezTo>
                  <a:pt x="14081" y="13163"/>
                  <a:pt x="14048" y="13179"/>
                  <a:pt x="14015" y="13196"/>
                </a:cubicBezTo>
                <a:cubicBezTo>
                  <a:pt x="13947" y="12968"/>
                  <a:pt x="14015" y="12787"/>
                  <a:pt x="14188" y="12601"/>
                </a:cubicBezTo>
                <a:cubicBezTo>
                  <a:pt x="14229" y="12581"/>
                  <a:pt x="14256" y="12572"/>
                  <a:pt x="14213" y="12576"/>
                </a:cubicBezTo>
              </a:path>
              <a:path w="7368" h="3200">
                <a:moveTo>
                  <a:pt x="14635" y="12427"/>
                </a:moveTo>
                <a:cubicBezTo>
                  <a:pt x="14462" y="12661"/>
                  <a:pt x="14379" y="12766"/>
                  <a:pt x="14412" y="13047"/>
                </a:cubicBezTo>
                <a:cubicBezTo>
                  <a:pt x="14633" y="13068"/>
                  <a:pt x="14954" y="12922"/>
                  <a:pt x="14908" y="12601"/>
                </a:cubicBezTo>
                <a:cubicBezTo>
                  <a:pt x="14805" y="12473"/>
                  <a:pt x="14766" y="12431"/>
                  <a:pt x="14635" y="12452"/>
                </a:cubicBezTo>
              </a:path>
              <a:path w="7368" h="3200">
                <a:moveTo>
                  <a:pt x="12675" y="13791"/>
                </a:moveTo>
                <a:cubicBezTo>
                  <a:pt x="12779" y="13773"/>
                  <a:pt x="12888" y="13745"/>
                  <a:pt x="12898" y="13767"/>
                </a:cubicBezTo>
              </a:path>
              <a:path w="7368" h="3200">
                <a:moveTo>
                  <a:pt x="13568" y="13791"/>
                </a:moveTo>
                <a:cubicBezTo>
                  <a:pt x="13582" y="13929"/>
                  <a:pt x="13593" y="14050"/>
                  <a:pt x="13593" y="14188"/>
                </a:cubicBezTo>
              </a:path>
              <a:path w="7368" h="3200">
                <a:moveTo>
                  <a:pt x="14188" y="13643"/>
                </a:moveTo>
                <a:cubicBezTo>
                  <a:pt x="14337" y="13840"/>
                  <a:pt x="14445" y="14124"/>
                  <a:pt x="14039" y="14139"/>
                </a:cubicBezTo>
                <a:cubicBezTo>
                  <a:pt x="13998" y="14122"/>
                  <a:pt x="13956" y="14106"/>
                  <a:pt x="13915" y="14089"/>
                </a:cubicBezTo>
                <a:cubicBezTo>
                  <a:pt x="13917" y="13865"/>
                  <a:pt x="14212" y="14033"/>
                  <a:pt x="14337" y="14089"/>
                </a:cubicBezTo>
                <a:cubicBezTo>
                  <a:pt x="14370" y="14106"/>
                  <a:pt x="14403" y="14122"/>
                  <a:pt x="14436" y="14139"/>
                </a:cubicBezTo>
              </a:path>
              <a:path w="7368" h="3200">
                <a:moveTo>
                  <a:pt x="14759" y="13643"/>
                </a:moveTo>
                <a:cubicBezTo>
                  <a:pt x="14630" y="13693"/>
                  <a:pt x="14537" y="13924"/>
                  <a:pt x="14560" y="14064"/>
                </a:cubicBezTo>
                <a:cubicBezTo>
                  <a:pt x="14585" y="14097"/>
                  <a:pt x="14610" y="14130"/>
                  <a:pt x="14635" y="14163"/>
                </a:cubicBezTo>
                <a:cubicBezTo>
                  <a:pt x="14814" y="14112"/>
                  <a:pt x="15273" y="13896"/>
                  <a:pt x="14883" y="13692"/>
                </a:cubicBezTo>
                <a:cubicBezTo>
                  <a:pt x="14833" y="13692"/>
                  <a:pt x="14784" y="13692"/>
                  <a:pt x="14734" y="13692"/>
                </a:cubicBezTo>
              </a:path>
              <a:path w="7368" h="3200">
                <a:moveTo>
                  <a:pt x="12725" y="14610"/>
                </a:moveTo>
                <a:cubicBezTo>
                  <a:pt x="13268" y="14562"/>
                  <a:pt x="13817" y="14571"/>
                  <a:pt x="14362" y="14536"/>
                </a:cubicBezTo>
                <a:cubicBezTo>
                  <a:pt x="14759" y="14510"/>
                  <a:pt x="15157" y="14476"/>
                  <a:pt x="15553" y="14436"/>
                </a:cubicBezTo>
              </a:path>
              <a:path w="7368" h="3200">
                <a:moveTo>
                  <a:pt x="14163" y="14808"/>
                </a:moveTo>
                <a:cubicBezTo>
                  <a:pt x="14183" y="14942"/>
                  <a:pt x="14048" y="15144"/>
                  <a:pt x="14039" y="15304"/>
                </a:cubicBezTo>
                <a:cubicBezTo>
                  <a:pt x="14047" y="15346"/>
                  <a:pt x="14056" y="15387"/>
                  <a:pt x="14064" y="15429"/>
                </a:cubicBezTo>
                <a:cubicBezTo>
                  <a:pt x="14272" y="15478"/>
                  <a:pt x="14503" y="15466"/>
                  <a:pt x="14585" y="15205"/>
                </a:cubicBezTo>
                <a:cubicBezTo>
                  <a:pt x="14577" y="15180"/>
                  <a:pt x="14568" y="15156"/>
                  <a:pt x="14560" y="15131"/>
                </a:cubicBezTo>
                <a:cubicBezTo>
                  <a:pt x="14355" y="15179"/>
                  <a:pt x="14275" y="15248"/>
                  <a:pt x="14263" y="15453"/>
                </a:cubicBezTo>
              </a:path>
              <a:path w="7368" h="3200">
                <a:moveTo>
                  <a:pt x="14932" y="14808"/>
                </a:moveTo>
                <a:cubicBezTo>
                  <a:pt x="14767" y="14930"/>
                  <a:pt x="14579" y="15144"/>
                  <a:pt x="14610" y="15379"/>
                </a:cubicBezTo>
                <a:cubicBezTo>
                  <a:pt x="14635" y="15412"/>
                  <a:pt x="14659" y="15445"/>
                  <a:pt x="14684" y="15478"/>
                </a:cubicBezTo>
                <a:cubicBezTo>
                  <a:pt x="14934" y="15442"/>
                  <a:pt x="15268" y="15315"/>
                  <a:pt x="15131" y="14957"/>
                </a:cubicBezTo>
                <a:cubicBezTo>
                  <a:pt x="15003" y="14854"/>
                  <a:pt x="14956" y="14822"/>
                  <a:pt x="14833" y="14883"/>
                </a:cubicBezTo>
              </a:path>
              <a:path w="7368" h="3200">
                <a:moveTo>
                  <a:pt x="15528" y="15205"/>
                </a:moveTo>
                <a:cubicBezTo>
                  <a:pt x="15726" y="15205"/>
                  <a:pt x="15925" y="15205"/>
                  <a:pt x="16123" y="15205"/>
                </a:cubicBezTo>
              </a:path>
              <a:path w="7368" h="3200">
                <a:moveTo>
                  <a:pt x="16520" y="15007"/>
                </a:moveTo>
                <a:cubicBezTo>
                  <a:pt x="16550" y="14887"/>
                  <a:pt x="16717" y="14876"/>
                  <a:pt x="16818" y="14858"/>
                </a:cubicBezTo>
                <a:cubicBezTo>
                  <a:pt x="16834" y="14858"/>
                  <a:pt x="16851" y="14858"/>
                  <a:pt x="16867" y="14858"/>
                </a:cubicBezTo>
                <a:cubicBezTo>
                  <a:pt x="16799" y="15132"/>
                  <a:pt x="16617" y="15318"/>
                  <a:pt x="16421" y="15528"/>
                </a:cubicBezTo>
                <a:cubicBezTo>
                  <a:pt x="16413" y="15536"/>
                  <a:pt x="16404" y="15545"/>
                  <a:pt x="16396" y="15553"/>
                </a:cubicBezTo>
                <a:cubicBezTo>
                  <a:pt x="16555" y="15564"/>
                  <a:pt x="16742" y="15509"/>
                  <a:pt x="16917" y="15503"/>
                </a:cubicBezTo>
                <a:cubicBezTo>
                  <a:pt x="16933" y="15503"/>
                  <a:pt x="16950" y="15503"/>
                  <a:pt x="16966" y="15503"/>
                </a:cubicBezTo>
              </a:path>
              <a:path w="7368" h="3200">
                <a:moveTo>
                  <a:pt x="17462" y="15032"/>
                </a:moveTo>
                <a:cubicBezTo>
                  <a:pt x="17562" y="15011"/>
                  <a:pt x="17695" y="14983"/>
                  <a:pt x="17760" y="15032"/>
                </a:cubicBezTo>
              </a:path>
              <a:path w="7368" h="3200">
                <a:moveTo>
                  <a:pt x="18579" y="14833"/>
                </a:moveTo>
                <a:cubicBezTo>
                  <a:pt x="18680" y="14807"/>
                  <a:pt x="18778" y="14719"/>
                  <a:pt x="18901" y="14734"/>
                </a:cubicBezTo>
                <a:cubicBezTo>
                  <a:pt x="18934" y="14751"/>
                  <a:pt x="18967" y="14767"/>
                  <a:pt x="19000" y="14784"/>
                </a:cubicBezTo>
                <a:cubicBezTo>
                  <a:pt x="18913" y="14944"/>
                  <a:pt x="18854" y="15001"/>
                  <a:pt x="18703" y="15106"/>
                </a:cubicBezTo>
                <a:cubicBezTo>
                  <a:pt x="18918" y="15047"/>
                  <a:pt x="18996" y="15118"/>
                  <a:pt x="19149" y="15255"/>
                </a:cubicBezTo>
                <a:cubicBezTo>
                  <a:pt x="19085" y="15361"/>
                  <a:pt x="18710" y="15608"/>
                  <a:pt x="18604" y="15379"/>
                </a:cubicBezTo>
                <a:cubicBezTo>
                  <a:pt x="18629" y="15346"/>
                  <a:pt x="18653" y="15313"/>
                  <a:pt x="18678" y="15280"/>
                </a:cubicBezTo>
              </a:path>
              <a:path w="7368" h="3200">
                <a:moveTo>
                  <a:pt x="19546" y="14759"/>
                </a:moveTo>
                <a:cubicBezTo>
                  <a:pt x="19402" y="15003"/>
                  <a:pt x="19304" y="15153"/>
                  <a:pt x="19372" y="15429"/>
                </a:cubicBezTo>
                <a:cubicBezTo>
                  <a:pt x="19588" y="15405"/>
                  <a:pt x="20002" y="15326"/>
                  <a:pt x="19893" y="14982"/>
                </a:cubicBezTo>
                <a:cubicBezTo>
                  <a:pt x="19768" y="14857"/>
                  <a:pt x="19725" y="14815"/>
                  <a:pt x="19596" y="14808"/>
                </a:cubicBezTo>
              </a:path>
              <a:path w="7368" h="3200">
                <a:moveTo>
                  <a:pt x="19993" y="14436"/>
                </a:moveTo>
                <a:cubicBezTo>
                  <a:pt x="19913" y="14437"/>
                  <a:pt x="19911" y="14476"/>
                  <a:pt x="19869" y="14560"/>
                </a:cubicBezTo>
                <a:cubicBezTo>
                  <a:pt x="19921" y="14583"/>
                  <a:pt x="20091" y="14594"/>
                  <a:pt x="20042" y="14461"/>
                </a:cubicBezTo>
                <a:cubicBezTo>
                  <a:pt x="20026" y="14453"/>
                  <a:pt x="20009" y="14444"/>
                  <a:pt x="19993" y="14436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70720" y="5357880"/>
            <a:ext cx="768240" cy="233280"/>
          </a:xfrm>
          <a:custGeom>
            <a:avLst/>
            <a:gdLst/>
            <a:ahLst/>
            <a:rect l="l" t="t" r="r" b="b"/>
            <a:pathLst>
              <a:path w="2134" h="646">
                <a:moveTo>
                  <a:pt x="15801" y="14883"/>
                </a:moveTo>
                <a:lnTo>
                  <a:pt x="15801" y="14883"/>
                </a:lnTo>
              </a:path>
              <a:path w="2134" h="646">
                <a:moveTo>
                  <a:pt x="15751" y="15528"/>
                </a:moveTo>
                <a:cubicBezTo>
                  <a:pt x="15751" y="15520"/>
                  <a:pt x="15751" y="15511"/>
                  <a:pt x="15751" y="15503"/>
                </a:cubicBezTo>
              </a:path>
              <a:path w="2134" h="646">
                <a:moveTo>
                  <a:pt x="17562" y="15205"/>
                </a:moveTo>
                <a:cubicBezTo>
                  <a:pt x="17728" y="15205"/>
                  <a:pt x="17778" y="15206"/>
                  <a:pt x="17884" y="15180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153280" y="1197000"/>
            <a:ext cx="293760" cy="177840"/>
          </a:xfrm>
          <a:custGeom>
            <a:avLst/>
            <a:gdLst/>
            <a:ahLst/>
            <a:rect l="l" t="t" r="r" b="b"/>
            <a:pathLst>
              <a:path w="819" h="497">
                <a:moveTo>
                  <a:pt x="22721" y="3497"/>
                </a:moveTo>
                <a:cubicBezTo>
                  <a:pt x="22774" y="3468"/>
                  <a:pt x="22831" y="3443"/>
                  <a:pt x="22845" y="3448"/>
                </a:cubicBezTo>
                <a:cubicBezTo>
                  <a:pt x="22847" y="3471"/>
                  <a:pt x="22841" y="3704"/>
                  <a:pt x="22746" y="3646"/>
                </a:cubicBezTo>
                <a:cubicBezTo>
                  <a:pt x="22746" y="3618"/>
                  <a:pt x="22748" y="3607"/>
                  <a:pt x="22771" y="3597"/>
                </a:cubicBezTo>
                <a:cubicBezTo>
                  <a:pt x="22835" y="3606"/>
                  <a:pt x="23045" y="3684"/>
                  <a:pt x="22895" y="3795"/>
                </a:cubicBezTo>
                <a:cubicBezTo>
                  <a:pt x="22752" y="3901"/>
                  <a:pt x="22655" y="3784"/>
                  <a:pt x="22696" y="3671"/>
                </a:cubicBezTo>
              </a:path>
              <a:path w="819" h="497">
                <a:moveTo>
                  <a:pt x="23118" y="3473"/>
                </a:moveTo>
                <a:cubicBezTo>
                  <a:pt x="23072" y="3604"/>
                  <a:pt x="23050" y="3662"/>
                  <a:pt x="23068" y="3795"/>
                </a:cubicBezTo>
                <a:cubicBezTo>
                  <a:pt x="23220" y="3775"/>
                  <a:pt x="23344" y="3721"/>
                  <a:pt x="23242" y="3547"/>
                </a:cubicBezTo>
                <a:cubicBezTo>
                  <a:pt x="23190" y="3495"/>
                  <a:pt x="23171" y="3478"/>
                  <a:pt x="23118" y="3473"/>
                </a:cubicBezTo>
              </a:path>
              <a:path w="819" h="497">
                <a:moveTo>
                  <a:pt x="23391" y="3324"/>
                </a:moveTo>
                <a:cubicBezTo>
                  <a:pt x="23348" y="3381"/>
                  <a:pt x="23382" y="3430"/>
                  <a:pt x="23465" y="3373"/>
                </a:cubicBezTo>
                <a:cubicBezTo>
                  <a:pt x="23465" y="3349"/>
                  <a:pt x="23465" y="3340"/>
                  <a:pt x="23465" y="3324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rse 1:    PW 122 problems 13-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rse 2:  PW 1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0T03:02:28Z</dcterms:created>
  <dc:creator>demcgra</dc:creator>
  <dc:description/>
  <dc:language>en-US</dc:language>
  <cp:lastModifiedBy>demcgra</cp:lastModifiedBy>
  <dcterms:modified xsi:type="dcterms:W3CDTF">2012-01-31T16:27:18Z</dcterms:modified>
  <cp:revision>4</cp:revision>
  <dc:subject/>
  <dc:title>Slide 1</dc:title>
</cp:coreProperties>
</file>